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media/image10.jpeg" ContentType="image/jpeg"/>
  <Override PartName="/ppt/media/image11.gif" ContentType="image/gif"/>
  <Override PartName="/ppt/media/start.wav" ContentType="audio/x-wav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  <p:sldId id="268" r:id="rId50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slide" Target="slides/slide13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10350-C852-494C-81D3-6E4FEA1587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5C1DF-EC5D-4D87-BFF5-33B68837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EA27EE-19AA-49A0-A1D6-50A81910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60923C-4C36-4923-BE56-08D4CA7EB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E130FC-7BC9-4515-AAF5-523CCD88D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1BDF9A-D1B5-4F94-8A61-EEADAD38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9BAF39-9FE7-465F-ACB1-04697FD4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412012-BFDE-4A1B-93B4-6915F031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16D4BF-D023-4EC4-9C49-0334D6FF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A14836-ED0D-44A8-8AC7-2100DA45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B5FA0B-2CBA-4A0D-A905-7764A8FF08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4ABAF-EDA3-4A71-8D34-5305F4D18E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A98BD-CBDA-4083-B69C-A6EEF24D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72991-C73D-4128-92B3-2CAF2ACA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22812-07CE-422D-AE3A-FF6148C9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7EDAD-B03F-486F-9275-6A224E46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25CB2-AA96-4DE2-A57F-8C4CC955D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7DC8C-1814-4866-A7A0-E3D944219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9996B-7D51-42E6-BFEB-DCCB1958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A8253-5DB0-4FA4-9AFA-44BF3CFE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4FB02-3F7E-4D93-96C2-E7E49E9A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46A81-DCC3-4050-B523-B66CF337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FDDC9-CE71-432E-92A3-05C9644F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D03E4-B473-4FF2-AAC6-3B1A7FF440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4F670-A40E-4FC4-BBF4-9346381749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3BA02B-1318-4280-A628-3E474957B2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6AC900-2158-4A1D-AA46-5D48F2A7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4E8544-DAB9-4FF6-B9B8-A1838937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7ACAD7-9453-4381-9D2B-B6A68E61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83F1DD-EF6B-48E5-8899-BC721E1FF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3F8E98-1CEB-4FF4-AC0F-AE5AEF828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DCB253-327F-406B-AEBA-3D8408E5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5312A2-0010-42BB-815F-35C68A2A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509A73-08B0-4712-BE72-1356DC02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57F4B-0B3A-41E3-9B79-D97BD77364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BC323E-04EC-4AFF-A33E-EB6A6A1B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C34FB1-29B9-4C46-ADDE-6CF3B128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0FE970-B5D7-43B2-A25A-3B56553B1A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B49C7F-83FC-4373-B037-7F67F856E1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9B07D3-9753-41C7-AC94-48DC1911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E66DAB-5967-47D7-BDE8-BD1A0857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2A3497-0291-4D4B-8938-3BC38082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9734E3-AD76-4193-85D4-E5E183148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98E6D0-0BBC-4EC3-9415-016F38951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88732E-D8D0-4DA4-A602-A0F09FBB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BCDA5-FC4D-4977-B18F-39579AFC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E36276-2906-47B4-889B-47E413D4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811893-B2C5-4D84-8D27-08B20454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75A43A-7E7A-4646-A870-A51861EC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6DF0B6-D277-4B2D-808B-15D7B651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A27A9F-47A0-4F5A-9F8C-44CE73D0D7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7D0F9-5D3E-4E24-8D58-4F74032D15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B69E2-669E-4D36-9659-EB59AB1E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F7831-988E-41A2-BF0F-664F068A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9DAE1-8E9C-4A8D-BA9B-46C9AD06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1AEB6-97C6-44A8-AE62-F37F01E25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8CD3C-4C00-46FC-8851-2A1D4F87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D417E-2DC6-48CB-9DCA-FE350674B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0E8117-E0CE-4D8D-9735-627E7D7F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1BC65-D3DC-4CCA-BD4B-BB168C85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D49606-DA6D-414A-A446-345E88EB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4BB29-9410-4736-B5B4-D93F207D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A55EC-ABA5-42F9-BA16-1FF38E41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D7CB8-B89C-4AC6-A716-F8CCAACF74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5D4762-76EA-406C-8612-73F7CAE6C4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3C9A0A-61E7-4633-AAC7-822349A6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8E4541-121B-485E-B07C-A71DC0AD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005F3-DF93-48E6-97C4-72DA231D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C3989E-91B4-4CF2-8218-5666CE14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E98F89-75C3-4E58-B670-8D78D1250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D37748-AA22-48E9-9039-82DD71DDD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AA5D1C-1CB0-4CC1-A51E-551F732F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D799E6-89A5-4040-962F-2A6640B0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A079E7-3A8B-48B8-94BA-9548C767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77ACE4-DA2A-4C1B-AD8C-0C367DA0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DB392C-88E2-490D-AC33-5E87BD83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2951CD-43DF-4EF0-9E4F-DC4EABEB2C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66B3EDF-CEBF-4D71-8E8D-0F5FC3CDE4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3A8221-122F-41C0-8C62-6B206D968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D1EA747-4D5D-4AE4-8227-49633795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A2E6F94-37D8-43D0-8966-8972A2D9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E5827CE-174A-4360-BE71-BBF21FD3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C45F12F-68A6-4F62-96C4-D7ABB7755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F90B1A-C6CB-4E85-8E3D-55345E949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C21F688-F6B8-46ED-9464-392C116D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B8E9128-21C1-435C-996D-7EF4C4AF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A4C5366-739B-4716-91DB-DF760B5D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6EC2BFB-E8D1-4057-9745-3A27731E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45A60CA-FE6B-4463-939D-F6F0BE6B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4E21A-30E5-4318-AE18-D37A79C06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2CB0F0A-60B7-4129-B73D-940D245792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BDF95-CBE8-44FF-9E31-11C68FE2F9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243DC-39AB-4966-AC7F-F8C2E23E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41421-72D6-40F9-9033-8B7BDF99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8C648-AD68-4A7F-8743-1548F29A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F5147-2B0B-4B66-83B4-C754B4004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6B5F5-0027-44D0-B98D-496DCD835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B185B-B8E0-4F21-8AE0-E7D42C72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479A67-CC5D-4C0F-AA0F-56568B68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0BFA2-A0CB-4342-8318-C54BDA6B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DE2AA-EF5E-4377-8631-B67F3597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1F240-D1BF-4DD2-8F38-670ACDF1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3568F-C55C-4D42-8246-398B66C5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C4386-8650-4072-A8D8-402C6641B3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C7DB88A-AA75-4F3C-A197-AB1290AB6B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D2A87C6-0348-42E3-87B3-57657DE7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07F773C-C994-4CC0-B858-F3D9F16D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982BF77-F186-4748-BCB3-BC1FE046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050657E-E5FB-4079-8AB9-CF0B33C55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3F28BC5-53E6-45C8-B6DB-0DC94BD4A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9F12421-041C-43B0-AA8F-AF2EB828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EA355-A4AD-423B-8D75-D2EE2C57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35CD0D-F66D-4230-A7D0-D02FE427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4E0DA48-CDD4-4914-8820-0C44197D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F90563-48ED-403C-9554-C8ACB5CE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AE5E5A7-0110-42A9-9451-8022D539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595B152-EE38-4DAC-8F51-31C1D95E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34350FB-0F7E-4A69-9FE3-B85B82E9DA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3EA4F11-F9DA-443C-9B45-CF7360791F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D502114-42CE-4ABC-8DC2-F83F16A0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2F4B55D-E12A-4FA3-AFC6-D5E1EFC5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F2871EA-A08B-4256-BC4F-69B5ACA3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E20BEF8-D7A2-4D0F-BB7A-B6B9F4866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A008D-E02D-4756-B5DF-BB823AC0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D5B6A75-3D31-4157-8D79-818C99D10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05F5813-DF44-4AF6-B680-D55CE14A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7772C61-2D48-40E3-8CF2-1A735B13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F5A07ED-B090-43D2-B3FB-A76EAFDF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6739E57-B79E-430C-B6CF-BE84187F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B132B95-A691-4010-B9EB-92379926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0490164-9999-40FB-B0F8-6BBB11B411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B5A0BE-1405-48BA-AA4F-F417DC6787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1C2C75-A2A7-49A9-8CD4-0EED3544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F0AEFB-020F-450C-B360-35F9CDFF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D2FF4-23C0-4162-AC18-EE8F0B2B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3C50A9-AF35-462E-889A-9E942472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D134A1-DC98-4657-9757-781524CB1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767BF0-013C-43E7-9B80-58CD1A820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39922F-83C4-47FB-AA3E-A2A4E754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4CBC7A-A0E6-40F0-9F4B-CFA3007A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F0BF59-E7C0-48AE-908D-85D881E2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672097-41E2-4B09-940A-B4905198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255F64-F38E-4D24-8BD3-8D13412D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A4AE27-39CB-48D9-8809-1964E1A0CB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7F13E42-8633-430D-9053-BF6FF2A0CC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BC8BE5-23EF-44F2-963E-FE805A08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9E26ED2-490E-4C96-880C-15160F66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51806EE-C5D0-4F7F-83AB-FFF94C64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3A0AE96-DBB5-46F7-824E-A4FF3218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A7BE6C3-CDF8-4228-939C-E6759B3BC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2F3EA3D-5F3C-4E60-98DE-E48C73EB0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FB5B902-B3A0-4960-B5C4-BBCBA349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282C44A-B4B1-4D19-9714-D21D5D29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1A0F3A9-3606-47E3-B0E2-ABABBB2F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B54E547-0077-4FEC-8574-8E72A2E5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8E895EE-9CA4-4432-8FC4-B385B732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1EAA4-DDC9-4FA8-A0BE-D70123CB8D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57A65A7-357A-44B8-B874-1FC61AB538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BCCC881-22E2-4A15-B46C-5735066BA9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20D747F-79C6-4812-91CC-353B5814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06C2713-9565-4375-BD24-4038F715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15614CC-BFF3-4674-B632-3C4F51F4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ADDF6A5-CC6E-4DD3-90B5-6F0C8DDBD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B0AC872-558A-44FE-B349-CFCDC3B10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D7D0E57-E249-45A7-B8CF-F9A8ACDB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93A68AE-6ABA-4412-95F0-BE7154E7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BEC76C7-498F-4FAC-9D7B-ED4397B5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9C3ABB-38B5-4D6E-ADFE-08AE6C6C3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E947D6B-A353-4C48-A835-FF1BD938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0D65391-A465-48A3-A42A-F96B96E1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AE024FF-C7BE-46F9-A679-783C9324A2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BA833A-80BB-47B7-85F0-A8288518AC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2E44F8-5764-49F6-AA11-6F166477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AB4F73-2787-4385-A8BB-EDA37CD4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5DF532-D6AA-4134-916F-56563693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9B9390-1889-428E-887F-C73CB4C67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446012-656B-4BE6-9FE4-85CA0CCAC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C6AAB1-0D12-4BAE-982C-98E98C7B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352136-D02D-4E0A-B73B-882287FB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5C8AE6-B11B-4329-A979-17B02C88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A4AA18-56D2-4CCA-ACE1-41F96ECD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FB0D7D-58B9-487B-B4A2-F2A03060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1FEE8E-3764-4765-806D-75886126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BACD87-00D2-4DA2-B335-17F7945921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595345F-AB5F-402A-B855-69695F962B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6FC2F0C-0E1A-49FC-9B39-F561A546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EDA31AC-0C8F-446B-BEE9-FF63FB49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66D44CA-2562-4FA4-88BD-832177F3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374135A-9C4B-4D2E-BD41-1F2721841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B219F8-3A67-48D9-A940-851AB22A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EAAB265-264E-4814-9A0B-A791985DE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B9F3EE6-E860-4BEC-A8A0-32C77109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CB1E2DF-4496-4878-8F1E-D121B46F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C04E81B-8ED1-425A-8429-D21BCD7B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0110755-1B88-4AB8-BF3F-E7BDA349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5E3FEA2-BBEC-4A6F-922A-8F6EB731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9DD6252-8847-4A0D-8727-44CF6CC9B5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07FC42E-E3DE-423F-85BF-19C217560C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BD63F8D-6CD4-4080-AFF1-2846A045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7317CEC-916F-4B82-8DFB-A4F7BC8F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961A30-59D2-4A79-8D4A-D4CFFEBF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6AE1422-0A43-401E-9581-A978B2B3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D03AB4B-5FD1-4E83-8DC7-1098E288E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C32A3A8-D944-4312-94AA-EA6492992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EC70360-6B4D-42A5-90C4-A53827C8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6FF5546-9912-4DE7-832F-245F6140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868F6D8-D26B-4077-87E6-CF4EEA7C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861B9E0-76D2-496B-AF2B-AFC732BC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0D97546-CC22-4D5E-ACE6-32C94AF4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6997560-3DBE-4A56-A0DF-0AD8891C80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918908-50D9-469D-BEC4-3FAC29D598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3E6AE4-F10B-4577-A49B-05EE202A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B55BCD-5F40-47BC-BFAC-3F8B6A3B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3835ED-3171-463B-9FCB-B726A279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2C7FB7-6715-4E55-9FB1-35752E87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7D5290-B473-47CA-860C-9E1A4B623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A74CEB-A092-44D3-B910-AF170A2E3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2ABB48-41D6-4E10-A479-6BE170FC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6A55FB-1421-4F55-9E9D-FC649565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DF7063-4B9E-4598-A387-F261BF4C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F0AFDF-06D2-441B-973A-608C2947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C7F322-A011-4C75-A35B-3C75CBC2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7CD23-1D76-4E37-8766-62A3F976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17FE1E-8D5E-4AE0-B432-DDBBB438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8BA866-11BB-4A0D-8620-011E5BD563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A9496A-F785-4D97-ABBE-9D0D93EA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D8C0E3-08DF-492F-AF51-D022AFEE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786599-C1AF-4F8C-998C-7FD4C512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0CB3CA-C134-4D4E-AD09-00FD37E6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ECB7B9-87FA-4EAE-932C-721C628C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CFCA8B-72AF-44B0-8F87-731D2D17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4E5B7C-4A4E-4F5D-93F1-B845DD1E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E1499F-6405-439E-97FE-15EC40D4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AB4722-30B9-4855-9089-5647D3CA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316E7E-3AF5-470A-9C0D-D986FEE2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416CBD-3C25-426D-86C2-54337AFF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2F5AD8-1041-40AD-BC73-5F48B1453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4FA0C0-B9E6-4330-B8F7-BBDF5DC62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11061C-0040-4400-BF6B-BE7EBE53A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99D8DC-211C-4A7D-A7B5-D6C088D7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9F80A1-1156-454A-8E16-4C9B17C2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250CB8-D374-45AC-93CB-0F10CEEC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C9AE4E-DFC0-44EA-AA64-3176CB61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090999-F8F0-4BDF-B90B-391D2D13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76A6B9-FA86-4584-8678-E7EEAA47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EC985E-4866-48F7-99E8-F5894F38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3DC81B-4FFF-4D27-B15F-A02B6CA3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327BD7-BF82-49F5-BC26-C65AB8F3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CB5BCC-D1EE-45E5-B7F2-6AA0D7C9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29DFFC-F5B4-476D-B478-AA2DA612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41DB6F-D91E-420B-AA88-C8D66ED5D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A01638-3457-4514-A9C4-4AAE2DA20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4124D8-FD1F-4199-8C87-4F848E7A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82A49A-82FD-4475-84FD-56644E98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101998-7A2F-4DF6-B1F2-637E7BB2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9A8124-EEEB-4D8E-B3C8-186AA3BC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CDF507-36B6-4117-B323-9F36F51B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A6B3F5-4131-4C6A-A6BB-94088F27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748341-32A2-4AC0-AF0E-893FFE6C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0A3422-718F-4F86-8102-AE7CAB4A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0DCA60-FA30-4DB7-8BC3-D5C315FF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0D1891-6AC5-499E-A862-D79227A7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FF2276-091C-466B-89D5-E6FCAE81E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B40C33-D5A2-4F14-BA66-596141D16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221EFC-4148-406F-B612-EEB8ABBAF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C887E0-1D28-4F17-B27B-72CE3F43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2FB645-9A87-4AA3-89A3-5847C8B4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535CE5-E033-4AFD-B21A-8F5D9B9F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CE0E06-088D-4FA2-8A8F-34A02A3B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F947F1-72E8-4B57-BE60-54C1A03A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7ECDC7-ED06-4B6F-9BDF-5C772BC7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FB4834-B51F-4DB9-A2D8-2909457E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B8FE11-84D9-49E9-A3D7-A4A8B582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F01EC3-C246-4736-BE62-8F06937E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F18624-5B9B-477A-9777-3222DFF4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2E0BCA-2409-4E54-9461-EF0AE58B9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1E715A-CF15-4BD4-912C-2FD8ECC43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BDD45C-1196-4674-B3A0-107E055CB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993355-F69A-4FEB-AAB8-A6303142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438FBC-9901-4FCC-A1F2-1A991618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54C9EA-59BA-4766-B581-E1D3D6A7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FA7F26-7838-469E-AEA1-B21C3DE9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1AAB3C-7ACA-4CB7-971B-D15CF7A6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1D1351-46CC-4AAB-9064-6A5865F2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B5CDE8-D516-43A4-9A05-73E2778F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C67D6F-18C5-43F6-95A9-70B0E794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8C1301-23AE-4D43-9070-FFABB847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5F5469-B6EF-4B8F-877B-AAE7B477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F6F28F-4059-44F8-8385-5800AFE1B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44658A-1D0A-41FE-8547-04D7C1EE5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D11331-DDB0-4DA9-80A8-53011826C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2C3D39-59C6-4D2B-9B8F-1AD31AF0B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C2771E-A0E9-4296-AD7F-12F50CD8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98B882-D89E-4807-B29D-9C3BE9AE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448140-4F38-405E-B1BF-A0E00C18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DA216F-712B-442D-BF38-235735FB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47075C-E111-418E-88D9-A8A0323F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A113B1-7EC5-4979-A3C1-A7603739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D91A14-D077-43EB-9387-9CB4E7A2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E610B1-10BA-4D55-B4ED-1807978C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CFAE5-4967-4A4E-A8D5-25370F06BF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DBC908-5399-4B53-BF23-8691DD5D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F47007-8183-4CB7-8ECF-C6FD90EC5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3DAF51-1341-42AD-A1B2-2DA591C39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C6A8A6-9C21-4C7B-A1BC-6146663A6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C30D64-D07A-4B67-884A-3ECB0BBB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93C1F8-B01D-4E22-ACBF-70228EC7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298FD6-E47D-45F4-AD8A-0E47139A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C92E08-C7EB-4F98-9CA2-0CBE066D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D7E5C6-F666-43FB-A9AE-415DA8EE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111AD1-AA6F-469F-8D36-E522A68D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007D3-2B79-425E-925E-DFA7791E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4AF80A-6C85-4FE2-9270-39116C26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6A9AA6-CBCD-4E68-B8D4-9CFC7581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94E04B-603C-4BC3-BB2B-5597ACFD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4B71EF-A237-4138-A07E-FCFF44BB4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880560-F3C4-43DC-97CC-7526A5DA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217B4E7-5B5C-4674-A985-1DAE08879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1DE3B1D-224C-4EAC-9938-0F0E00E3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0BD1D0D-C8BA-4790-BF0A-EF165F51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2E7931-8AA2-4E77-979F-C6B8610E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5E9A0D5-8994-4145-BFB5-08C2057E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A9577-41E3-4F11-A363-AF3D5B4B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203B41-A9BF-42C7-8C4B-6E4452A5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20D13B-5E5D-4157-AA51-852F67D7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CCD0EF-2F35-48C3-AAA4-35E8D852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5D7B5D8-06B4-44AE-9CB3-3219C9B1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9D761A-7EE8-48D7-86BC-8397F2BB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E4EEA5-8F71-4B49-9CC4-107ECD7AF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DC58546-CD6A-4509-922C-231DF313B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0E30063-0066-49C6-B871-F8E66A560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5C354A-E92E-42C4-AA8B-99FA982F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BE8B4E8-B458-48D1-B619-8CF32332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941C2-DACD-46FC-ADF4-4753F2DC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985C8-4504-47AE-A18B-8BB1B94E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1D0A8E0-2860-40BB-B654-7EC4D51E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6CD7AE-29B8-4837-B2CD-C26E2196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E57F223-76E4-4805-ABFF-D7AFD3C7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935C5B-123E-43C8-ABA2-57925A5B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0C423F1-6C50-44A5-B1B9-8BA37380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2EAABF-578F-4991-8B53-64F7D62C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31E7BB0-EC84-4694-BC5B-24C7ECA6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EB0205C-B4E7-495D-A5AD-E3BCFB8B7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692A811-2A36-4AEB-B9AB-75A759D06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E717FF1-6C8B-4D50-BC3F-111B07CF5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121FF-2EEE-4B7F-A078-69AD896B3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8773FFE-3093-4524-8ABA-5D5FAD50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0A7630-BE31-4768-9AF7-0BF80ADF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4E9778C-2D06-4F79-8606-774B79C5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5801508-4E2A-4124-93BE-06D55513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E5A5EED-348E-4C50-9F29-6118EC68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6CBC11E-45AF-4BE8-92DB-24B67AA4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9CBA766-4735-4A91-9390-E8771AED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0879168-F0C5-431D-80CF-9A46742F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C34DEA3-0151-4110-B855-723ABF06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150F135-7903-4E85-9A15-12725A0F1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51E75-AB3F-40A7-B8B5-36AC27C80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E1FE334-0BBF-4B45-B8B3-A8CA733A4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637BD4E-66AC-404E-B1C6-BAC5B829D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7F9A9C0-890D-4B12-9CC0-53E4B915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5750443-B38E-40DE-BCE5-1C947C92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7579287-B069-416D-AD72-AD20F4E9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7C8FB20-E855-4995-9C4E-EB704CD7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8C34C5D-05A8-4B48-921B-8D4D8E6B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B0ED01E-1C1A-4968-8FFC-533C8965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9396701-2402-431B-897F-34D4FDD5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CB03213-4AA4-4855-991C-30A3B42F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CB6F9-9EB2-442E-AC97-8A7EE016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0480D53-9694-470C-AADB-31AB2E9E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FC8B20C-50EB-4996-B888-266F41CF9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9C1AE13-9ED7-4F7A-9D60-2E73B06DB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A243A-76A9-46E1-B8E3-7D1CDA1D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329DC-E61E-4757-BB26-F571E98E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48C51-2C2A-48B2-A048-C9093729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D7026-FE2E-42BE-B982-11833B44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A4F08-B199-433D-9239-45199E726C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771917-7F83-4B25-BB6A-CD712C5A7C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A11DC-C90D-46F4-8803-90C1C1F15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F98D6B-952F-4726-94C1-FA35954F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66F120-BDE7-441D-9739-1A896BCD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687AA6-89B4-49C0-A3F8-87F4261C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D605E8-C039-4D77-BBD4-641CD6516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FF69EE-2E60-4620-BFCA-25A16CC3F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8FF557-161F-479D-80D8-4B288AB9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C6A5EA-8F28-494E-A86F-D2E7D774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CD4D7E-51DE-4A30-A17D-B7A8D70B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F74EF1-89D9-467E-8A41-1834EBF7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61D323-416C-4287-AD3C-507E4443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AD10D-629C-400D-AA50-3429EE5CA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D2C411-54FF-490C-BDF8-5E8E164B1E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3D13F5-3464-4AA2-946E-820F893C1C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DFB931-2AAC-48BF-AF32-CCB83B05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BE42AF-127D-4D12-9D35-3711A3F4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137A8E-B8D0-42A7-8017-4F7CD6BC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81DBC9-6898-4F52-B4C9-9D2DAF735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7D7B6F-7ADD-4F3E-A5D0-C5212D99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B41583-2182-431B-8EE4-6DAF6674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814D55-D18D-4C6D-AC45-84017364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82A457-DF2F-41CA-94A0-C91265A6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EF377-CFA3-45B6-B4D3-A38DCC69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9E002A-6194-4E13-9015-0E39F284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F10CA8-A222-43A6-814C-71366939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FB4299-01E1-49A0-8DD1-C5F1850C13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8D10C-F281-4559-9810-F82DA08CFE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5C7E6-E9D1-407D-A043-4CE45832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7BEB7-CEA6-467F-9748-07C4EF0A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EAF60-C129-4AAE-AE63-5B0DE269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D0191-80FB-47F0-A4FE-30A9ACE8D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A3BA4-4CB6-4DAC-84E9-B53275762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9019F-BAD0-4BFE-B430-DEEDCAAB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0D02F-7A20-46C3-A07A-6F30CEBC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45A39-10BB-4E1B-86EF-CA4ED21A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6C52F-973B-415E-99D1-5DF8974B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66C6B-B8A8-49BD-B804-65F080EC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1BF6C-5FC2-41AB-8F1E-6199AB50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893DB-C27C-4F77-BF8B-0873F80BB2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BB073B-5AEE-434E-8110-5861DA335F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D436DC-8B16-40D6-9836-8FB3D124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D669F6-61D9-4FA5-9E35-A6D69FB6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452CE6-83BC-4752-8B51-7165A769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DC3B79-4E3F-4F48-A6BB-6FF899AF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CC797-6041-43D9-8DE7-FA9CA842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20C76B-720D-4882-A30B-3E3B1C7D2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8A906E-9564-4AB0-8A19-EFE8FBE9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F31AB8-974E-4E4D-863E-94F76717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DCED95-82F2-4365-8302-292D233D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979FF3-B746-47EA-B4BD-F1381BF5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FF28FE-B42E-4779-8D61-D7D258CB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51DE3A-114F-41BD-A61F-441905529B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9DF183-187A-48AE-A28B-68CD61A184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9C4D61-000F-4C2B-80AB-B51C9784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31945E-5573-45F4-B2DD-BB2D34D9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3793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3794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3795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3796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3797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3798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3799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8912-B6C4-4D13-AB63-0730CAC0950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F9AA-7C3B-4553-8FD4-DDB1853D9E7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F6E1-3191-41B7-8E42-63778B6A6A0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39E3-FCCF-43CA-928B-21BD9025108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8B6E-207C-4071-B1BD-F322A8B456F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9A3F-17F2-4084-B6B0-81315644A3B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FFA0-EABA-4D49-B9AE-420E31BB205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3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CBCF-F551-4953-AB98-F8A0899DE0C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9BCD-08EA-4A17-8128-658DE8A5988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0BE4-A734-4154-8EB9-98D6CFAD0D0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3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7742-BDDB-42C9-9E7F-C7845923731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2E04-FD6A-40E0-B532-209B0A89EBB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F029-9B7E-46ED-952F-5F8CEC488F9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sldNum" idx="4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95CE-6D89-440D-A480-467C81645CB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4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00D9-CB22-41C6-9804-7086CF73078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19B9-FA2C-4BD2-86A0-F159D12926D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 type="dt" idx="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 type="sldNum" idx="4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0006-5D9A-4871-831C-9C6C170C468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5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44A5-4C72-41B4-A6CB-6CE035F03FC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74C7-AAF9-41E4-AC1C-DA15F8326100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86C3-9A43-48DF-A028-9026AF9C149B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FDC4-07E4-4BEE-8813-FAA84B55E56D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ftr" idx="6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C118-F5BC-4203-BD70-B102B1010626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96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7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8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9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0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00A8-BBA3-4F59-AA56-384D8B353B8C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6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634B-D9C7-40CB-B7CC-65DF23591DFD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6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4EDD-2E77-4272-9995-558F0E5BDEFC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 type="ftr" idx="7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9F42-F38F-4DE5-8FF4-6E2DA83668FC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 type="ftr" idx="7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A302-9C2C-4F80-8F7F-188B0FE1ED3B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 type="ftr" idx="7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AD46-AED0-4116-BCB8-5515E81F1D83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 type="ftr" idx="8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9112-778F-4D0C-9EFB-7ECAE42DC8F3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8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7327-9A74-4D00-A3CB-DA19F3846792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34817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43" name="椭圆 34818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4" name="椭圆 34819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5" name="椭圆 34820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6" name="椭圆 34821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7" name="椭圆 34822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8" name="椭圆 34823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FDCB-1D14-4497-9111-1494DB1559D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FBFB-F037-427E-80C3-8FB3C16ADC7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2FDD-C177-455C-A74E-3CA80DE3739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1F17-3A55-4606-B27F-AC66C44A756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3182-D060-4B44-A1E7-EF121F96F39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219D-EFFE-4CEC-B92F-EE540F90426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audio" Target="../media/start.wav"/><Relationship Id="rId14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矩形 29697"/>
          <p:cNvSpPr/>
          <p:nvPr/>
        </p:nvSpPr>
        <p:spPr>
          <a:xfrm>
            <a:off x="269640" y="5176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1" name="矩形 29698"/>
          <p:cNvSpPr/>
          <p:nvPr/>
        </p:nvSpPr>
        <p:spPr>
          <a:xfrm>
            <a:off x="485640" y="5392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2" name="Rectangle 7"/>
          <p:cNvSpPr/>
          <p:nvPr/>
        </p:nvSpPr>
        <p:spPr>
          <a:xfrm>
            <a:off x="1692360" y="549360"/>
            <a:ext cx="528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数除法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3" name="TextBox 3"/>
          <p:cNvSpPr/>
          <p:nvPr/>
        </p:nvSpPr>
        <p:spPr>
          <a:xfrm>
            <a:off x="-181080" y="1773360"/>
            <a:ext cx="6769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例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已知一个数的几分之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几是多少求这个数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2" name="图片 27649" descr="37"/>
          <p:cNvPicPr/>
          <p:nvPr/>
        </p:nvPicPr>
        <p:blipFill>
          <a:blip r:embed="rId1"/>
          <a:stretch/>
        </p:blipFill>
        <p:spPr>
          <a:xfrm>
            <a:off x="63360" y="1484280"/>
            <a:ext cx="5013360" cy="1979640"/>
          </a:xfrm>
          <a:prstGeom prst="rect">
            <a:avLst/>
          </a:prstGeom>
          <a:ln w="0">
            <a:noFill/>
          </a:ln>
        </p:spPr>
      </p:pic>
      <p:sp>
        <p:nvSpPr>
          <p:cNvPr id="1813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三、巩固练习，提升认识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4" name="TextBox 14"/>
          <p:cNvSpPr/>
          <p:nvPr/>
        </p:nvSpPr>
        <p:spPr>
          <a:xfrm>
            <a:off x="173160" y="1413000"/>
            <a:ext cx="13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3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.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5" name="TextBox 13"/>
          <p:cNvSpPr/>
          <p:nvPr/>
        </p:nvSpPr>
        <p:spPr>
          <a:xfrm>
            <a:off x="4427640" y="1413000"/>
            <a:ext cx="3357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图书馆共有多少本书？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6" name="TextBox 16"/>
          <p:cNvSpPr/>
          <p:nvPr/>
        </p:nvSpPr>
        <p:spPr>
          <a:xfrm>
            <a:off x="4427640" y="1773360"/>
            <a:ext cx="3357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图书馆有多少本故事书？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7" name="Rectangle 2"/>
          <p:cNvSpPr/>
          <p:nvPr/>
        </p:nvSpPr>
        <p:spPr>
          <a:xfrm>
            <a:off x="58680" y="4076640"/>
            <a:ext cx="62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知道了什么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8" name="Rectangle 2"/>
          <p:cNvSpPr/>
          <p:nvPr/>
        </p:nvSpPr>
        <p:spPr>
          <a:xfrm>
            <a:off x="838080" y="4505400"/>
            <a:ext cx="7643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解决“图书馆共有多少本书”需要哪个条件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9" name="Rectangle 2"/>
          <p:cNvSpPr/>
          <p:nvPr/>
        </p:nvSpPr>
        <p:spPr>
          <a:xfrm>
            <a:off x="844560" y="4933800"/>
            <a:ext cx="7643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“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图书馆有多少本故事书”呢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三、巩固练习，提升认识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1" name="Rectangle 2"/>
          <p:cNvSpPr/>
          <p:nvPr/>
        </p:nvSpPr>
        <p:spPr>
          <a:xfrm>
            <a:off x="826920" y="6237360"/>
            <a:ext cx="831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解决类似的问题，我们要注意什么？（找准和问题对应的条件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822" name="组合 28675"/>
          <p:cNvGrpSpPr/>
          <p:nvPr/>
        </p:nvGrpSpPr>
        <p:grpSpPr>
          <a:xfrm>
            <a:off x="0" y="5821200"/>
            <a:ext cx="8317080" cy="603360"/>
            <a:chOff x="0" y="5821200"/>
            <a:chExt cx="8317080" cy="603360"/>
          </a:xfrm>
        </p:grpSpPr>
        <p:sp>
          <p:nvSpPr>
            <p:cNvPr id="1823" name="Rectangle 2"/>
            <p:cNvSpPr/>
            <p:nvPr/>
          </p:nvSpPr>
          <p:spPr>
            <a:xfrm>
              <a:off x="826920" y="5848200"/>
              <a:ext cx="7490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3.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你会解决这两个问题吗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24" name="Rectangle 2"/>
            <p:cNvSpPr/>
            <p:nvPr/>
          </p:nvSpPr>
          <p:spPr>
            <a:xfrm>
              <a:off x="0" y="5821200"/>
              <a:ext cx="6264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问题：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825" name="TextBox 13"/>
          <p:cNvSpPr/>
          <p:nvPr/>
        </p:nvSpPr>
        <p:spPr>
          <a:xfrm>
            <a:off x="4427640" y="1413000"/>
            <a:ext cx="3357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图书馆共有多少本书？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6" name="TextBox 16"/>
          <p:cNvSpPr/>
          <p:nvPr/>
        </p:nvSpPr>
        <p:spPr>
          <a:xfrm>
            <a:off x="4427640" y="1773360"/>
            <a:ext cx="3357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图书馆有多少本故事书？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827" name="组合 28680"/>
          <p:cNvGrpSpPr/>
          <p:nvPr/>
        </p:nvGrpSpPr>
        <p:grpSpPr>
          <a:xfrm>
            <a:off x="826920" y="3046320"/>
            <a:ext cx="8242200" cy="2976840"/>
            <a:chOff x="826920" y="3046320"/>
            <a:chExt cx="8242200" cy="2976840"/>
          </a:xfrm>
        </p:grpSpPr>
        <p:grpSp>
          <p:nvGrpSpPr>
            <p:cNvPr id="1828" name="组合 28681"/>
            <p:cNvGrpSpPr/>
            <p:nvPr/>
          </p:nvGrpSpPr>
          <p:grpSpPr>
            <a:xfrm>
              <a:off x="826920" y="3074760"/>
              <a:ext cx="4535280" cy="2948400"/>
              <a:chOff x="826920" y="3074760"/>
              <a:chExt cx="4535280" cy="2948400"/>
            </a:xfrm>
          </p:grpSpPr>
          <p:sp>
            <p:nvSpPr>
              <p:cNvPr id="1829" name="Text Box 14"/>
              <p:cNvSpPr/>
              <p:nvPr/>
            </p:nvSpPr>
            <p:spPr>
              <a:xfrm>
                <a:off x="826920" y="3074760"/>
                <a:ext cx="453528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（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）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宋体"/>
                    <a:ea typeface="宋体"/>
                  </a:rPr>
                  <a:t>解：设图书馆共有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x 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本书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宋体"/>
                  </a:rPr>
                  <a:t>。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830" name="组合 28683"/>
              <p:cNvGrpSpPr/>
              <p:nvPr/>
            </p:nvGrpSpPr>
            <p:grpSpPr>
              <a:xfrm>
                <a:off x="1795320" y="3683880"/>
                <a:ext cx="2593800" cy="2339280"/>
                <a:chOff x="1795320" y="3683880"/>
                <a:chExt cx="2593800" cy="2339280"/>
              </a:xfrm>
            </p:grpSpPr>
            <p:sp>
              <p:nvSpPr>
                <p:cNvPr id="1831" name="文本框 28684"/>
                <p:cNvSpPr/>
                <p:nvPr/>
              </p:nvSpPr>
              <p:spPr>
                <a:xfrm>
                  <a:off x="2084040" y="3839400"/>
                  <a:ext cx="2305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x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20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1832" name="组合 28685"/>
                <p:cNvGrpSpPr/>
                <p:nvPr/>
              </p:nvGrpSpPr>
              <p:grpSpPr>
                <a:xfrm>
                  <a:off x="1795320" y="3683880"/>
                  <a:ext cx="511200" cy="815040"/>
                  <a:chOff x="1795320" y="3683880"/>
                  <a:chExt cx="511200" cy="815040"/>
                </a:xfrm>
              </p:grpSpPr>
              <p:sp>
                <p:nvSpPr>
                  <p:cNvPr id="1833" name="文本框 28686"/>
                  <p:cNvSpPr/>
                  <p:nvPr/>
                </p:nvSpPr>
                <p:spPr>
                  <a:xfrm>
                    <a:off x="1801800" y="403920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5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34" name="文本框 28687"/>
                  <p:cNvSpPr/>
                  <p:nvPr/>
                </p:nvSpPr>
                <p:spPr>
                  <a:xfrm>
                    <a:off x="1795320" y="368388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2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35" name="直接连接符 28688"/>
                  <p:cNvSpPr/>
                  <p:nvPr/>
                </p:nvSpPr>
                <p:spPr>
                  <a:xfrm>
                    <a:off x="1811160" y="4102920"/>
                    <a:ext cx="287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1836" name="矩形 28689"/>
                <p:cNvSpPr/>
                <p:nvPr/>
              </p:nvSpPr>
              <p:spPr>
                <a:xfrm>
                  <a:off x="2156400" y="4396320"/>
                  <a:ext cx="1132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x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20÷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1837" name="组合 28690"/>
                <p:cNvGrpSpPr/>
                <p:nvPr/>
              </p:nvGrpSpPr>
              <p:grpSpPr>
                <a:xfrm>
                  <a:off x="3240000" y="4217040"/>
                  <a:ext cx="510480" cy="815040"/>
                  <a:chOff x="3240000" y="4217040"/>
                  <a:chExt cx="510480" cy="815040"/>
                </a:xfrm>
              </p:grpSpPr>
              <p:sp>
                <p:nvSpPr>
                  <p:cNvPr id="1838" name="文本框 28691"/>
                  <p:cNvSpPr/>
                  <p:nvPr/>
                </p:nvSpPr>
                <p:spPr>
                  <a:xfrm>
                    <a:off x="3246120" y="4572360"/>
                    <a:ext cx="504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5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39" name="文本框 28692"/>
                  <p:cNvSpPr/>
                  <p:nvPr/>
                </p:nvSpPr>
                <p:spPr>
                  <a:xfrm>
                    <a:off x="3240000" y="4217040"/>
                    <a:ext cx="360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2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40" name="直接连接符 28693"/>
                  <p:cNvSpPr/>
                  <p:nvPr/>
                </p:nvSpPr>
                <p:spPr>
                  <a:xfrm>
                    <a:off x="3255480" y="4636080"/>
                    <a:ext cx="2872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1841" name="矩形 28694"/>
                <p:cNvSpPr/>
                <p:nvPr/>
              </p:nvSpPr>
              <p:spPr>
                <a:xfrm>
                  <a:off x="2157120" y="5014080"/>
                  <a:ext cx="1144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x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20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×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42" name="文本框 28695"/>
                <p:cNvSpPr/>
                <p:nvPr/>
              </p:nvSpPr>
              <p:spPr>
                <a:xfrm>
                  <a:off x="2134800" y="5563440"/>
                  <a:ext cx="1068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x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800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1843" name="组合 28696"/>
                <p:cNvGrpSpPr/>
                <p:nvPr/>
              </p:nvGrpSpPr>
              <p:grpSpPr>
                <a:xfrm>
                  <a:off x="3241440" y="4837680"/>
                  <a:ext cx="511200" cy="815040"/>
                  <a:chOff x="3241440" y="4837680"/>
                  <a:chExt cx="511200" cy="815040"/>
                </a:xfrm>
              </p:grpSpPr>
              <p:sp>
                <p:nvSpPr>
                  <p:cNvPr id="1844" name="文本框 28697"/>
                  <p:cNvSpPr/>
                  <p:nvPr/>
                </p:nvSpPr>
                <p:spPr>
                  <a:xfrm>
                    <a:off x="3247920" y="519300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2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45" name="文本框 28698"/>
                  <p:cNvSpPr/>
                  <p:nvPr/>
                </p:nvSpPr>
                <p:spPr>
                  <a:xfrm>
                    <a:off x="3241440" y="483768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5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46" name="直接连接符 28699"/>
                  <p:cNvSpPr/>
                  <p:nvPr/>
                </p:nvSpPr>
                <p:spPr>
                  <a:xfrm>
                    <a:off x="3257280" y="5256720"/>
                    <a:ext cx="287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47" name="组合 28700"/>
            <p:cNvGrpSpPr/>
            <p:nvPr/>
          </p:nvGrpSpPr>
          <p:grpSpPr>
            <a:xfrm>
              <a:off x="4533840" y="3046320"/>
              <a:ext cx="4535280" cy="2948400"/>
              <a:chOff x="4533840" y="3046320"/>
              <a:chExt cx="4535280" cy="2948400"/>
            </a:xfrm>
          </p:grpSpPr>
          <p:sp>
            <p:nvSpPr>
              <p:cNvPr id="1848" name="Text Box 14"/>
              <p:cNvSpPr/>
              <p:nvPr/>
            </p:nvSpPr>
            <p:spPr>
              <a:xfrm>
                <a:off x="4533840" y="3046320"/>
                <a:ext cx="453528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（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）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宋体"/>
                    <a:ea typeface="宋体"/>
                  </a:rPr>
                  <a:t>解：设图书馆共有故事书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x 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本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宋体"/>
                  </a:rPr>
                  <a:t>。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849" name="组合 28702"/>
              <p:cNvGrpSpPr/>
              <p:nvPr/>
            </p:nvGrpSpPr>
            <p:grpSpPr>
              <a:xfrm>
                <a:off x="5502240" y="3655440"/>
                <a:ext cx="2593800" cy="2339280"/>
                <a:chOff x="5502240" y="3655440"/>
                <a:chExt cx="2593800" cy="2339280"/>
              </a:xfrm>
            </p:grpSpPr>
            <p:sp>
              <p:nvSpPr>
                <p:cNvPr id="1850" name="文本框 28703"/>
                <p:cNvSpPr/>
                <p:nvPr/>
              </p:nvSpPr>
              <p:spPr>
                <a:xfrm>
                  <a:off x="5790960" y="3810960"/>
                  <a:ext cx="2305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x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20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1851" name="组合 28704"/>
                <p:cNvGrpSpPr/>
                <p:nvPr/>
              </p:nvGrpSpPr>
              <p:grpSpPr>
                <a:xfrm>
                  <a:off x="5502240" y="3655440"/>
                  <a:ext cx="511200" cy="815040"/>
                  <a:chOff x="5502240" y="3655440"/>
                  <a:chExt cx="511200" cy="815040"/>
                </a:xfrm>
              </p:grpSpPr>
              <p:sp>
                <p:nvSpPr>
                  <p:cNvPr id="1852" name="文本框 28705"/>
                  <p:cNvSpPr/>
                  <p:nvPr/>
                </p:nvSpPr>
                <p:spPr>
                  <a:xfrm>
                    <a:off x="5508720" y="401076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3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53" name="文本框 28706"/>
                  <p:cNvSpPr/>
                  <p:nvPr/>
                </p:nvSpPr>
                <p:spPr>
                  <a:xfrm>
                    <a:off x="5502240" y="365544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4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54" name="直接连接符 28707"/>
                  <p:cNvSpPr/>
                  <p:nvPr/>
                </p:nvSpPr>
                <p:spPr>
                  <a:xfrm>
                    <a:off x="5518080" y="4074480"/>
                    <a:ext cx="287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1855" name="矩形 28708"/>
                <p:cNvSpPr/>
                <p:nvPr/>
              </p:nvSpPr>
              <p:spPr>
                <a:xfrm>
                  <a:off x="5863320" y="4367880"/>
                  <a:ext cx="1132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x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20÷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1856" name="组合 28709"/>
                <p:cNvGrpSpPr/>
                <p:nvPr/>
              </p:nvGrpSpPr>
              <p:grpSpPr>
                <a:xfrm>
                  <a:off x="6946920" y="4188600"/>
                  <a:ext cx="510480" cy="815040"/>
                  <a:chOff x="6946920" y="4188600"/>
                  <a:chExt cx="510480" cy="815040"/>
                </a:xfrm>
              </p:grpSpPr>
              <p:sp>
                <p:nvSpPr>
                  <p:cNvPr id="1857" name="文本框 28710"/>
                  <p:cNvSpPr/>
                  <p:nvPr/>
                </p:nvSpPr>
                <p:spPr>
                  <a:xfrm>
                    <a:off x="6953040" y="4543920"/>
                    <a:ext cx="504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3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58" name="文本框 28711"/>
                  <p:cNvSpPr/>
                  <p:nvPr/>
                </p:nvSpPr>
                <p:spPr>
                  <a:xfrm>
                    <a:off x="6946920" y="4188600"/>
                    <a:ext cx="360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4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59" name="直接连接符 28712"/>
                  <p:cNvSpPr/>
                  <p:nvPr/>
                </p:nvSpPr>
                <p:spPr>
                  <a:xfrm>
                    <a:off x="6962400" y="4607640"/>
                    <a:ext cx="2872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1860" name="矩形 28713"/>
                <p:cNvSpPr/>
                <p:nvPr/>
              </p:nvSpPr>
              <p:spPr>
                <a:xfrm>
                  <a:off x="5864040" y="4985640"/>
                  <a:ext cx="1144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x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20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×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61" name="文本框 28714"/>
                <p:cNvSpPr/>
                <p:nvPr/>
              </p:nvSpPr>
              <p:spPr>
                <a:xfrm>
                  <a:off x="5841720" y="5535000"/>
                  <a:ext cx="1068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x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40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1862" name="组合 28715"/>
                <p:cNvGrpSpPr/>
                <p:nvPr/>
              </p:nvGrpSpPr>
              <p:grpSpPr>
                <a:xfrm>
                  <a:off x="6948360" y="4809240"/>
                  <a:ext cx="511200" cy="815040"/>
                  <a:chOff x="6948360" y="4809240"/>
                  <a:chExt cx="511200" cy="815040"/>
                </a:xfrm>
              </p:grpSpPr>
              <p:sp>
                <p:nvSpPr>
                  <p:cNvPr id="1863" name="文本框 28716"/>
                  <p:cNvSpPr/>
                  <p:nvPr/>
                </p:nvSpPr>
                <p:spPr>
                  <a:xfrm>
                    <a:off x="6954840" y="516456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4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64" name="文本框 28717"/>
                  <p:cNvSpPr/>
                  <p:nvPr/>
                </p:nvSpPr>
                <p:spPr>
                  <a:xfrm>
                    <a:off x="6948360" y="480924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3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65" name="直接连接符 28718"/>
                  <p:cNvSpPr/>
                  <p:nvPr/>
                </p:nvSpPr>
                <p:spPr>
                  <a:xfrm>
                    <a:off x="6964200" y="5228280"/>
                    <a:ext cx="287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866" name="图片 28719" descr="37"/>
          <p:cNvPicPr/>
          <p:nvPr/>
        </p:nvPicPr>
        <p:blipFill>
          <a:blip r:embed="rId1"/>
          <a:stretch/>
        </p:blipFill>
        <p:spPr>
          <a:xfrm>
            <a:off x="63360" y="1484280"/>
            <a:ext cx="5013360" cy="1979640"/>
          </a:xfrm>
          <a:prstGeom prst="rect">
            <a:avLst/>
          </a:prstGeom>
          <a:ln w="0">
            <a:noFill/>
          </a:ln>
        </p:spPr>
      </p:pic>
      <p:sp>
        <p:nvSpPr>
          <p:cNvPr id="1867" name="TextBox 14"/>
          <p:cNvSpPr/>
          <p:nvPr/>
        </p:nvSpPr>
        <p:spPr>
          <a:xfrm>
            <a:off x="173160" y="1413000"/>
            <a:ext cx="13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3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.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四、全课总结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69" name="TextBox 4"/>
          <p:cNvSpPr/>
          <p:nvPr/>
        </p:nvSpPr>
        <p:spPr>
          <a:xfrm>
            <a:off x="1103400" y="2266920"/>
            <a:ext cx="7572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今天都有哪些收获？还有什么问题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0" name="Picture 2" descr="星08"/>
          <p:cNvPicPr/>
          <p:nvPr/>
        </p:nvPicPr>
        <p:blipFill>
          <a:blip r:embed="rId1"/>
          <a:stretch/>
        </p:blipFill>
        <p:spPr>
          <a:xfrm>
            <a:off x="7315200" y="68580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871" name="Picture 3" descr="星08"/>
          <p:cNvPicPr/>
          <p:nvPr/>
        </p:nvPicPr>
        <p:blipFill>
          <a:blip r:embed="rId2"/>
          <a:stretch/>
        </p:blipFill>
        <p:spPr>
          <a:xfrm>
            <a:off x="304920" y="487692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1872" name="WordArt 4"/>
          <p:cNvSpPr txBox="1"/>
          <p:nvPr/>
        </p:nvSpPr>
        <p:spPr>
          <a:xfrm>
            <a:off x="1523880" y="4572000"/>
            <a:ext cx="6096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uFillTx/>
                <a:latin typeface="宋体"/>
              </a:rPr>
              <a:t>Good Bye!</a:t>
            </a:r>
            <a:endParaRPr b="0" i="1" lang="en-US" sz="3200" spc="-1" strike="noStrike" u="sng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uFillTx/>
              <a:latin typeface="宋体"/>
              <a:ea typeface="宋体"/>
            </a:endParaRPr>
          </a:p>
        </p:txBody>
      </p:sp>
      <p:pic>
        <p:nvPicPr>
          <p:cNvPr id="1873" name="Picture 5" descr="星08"/>
          <p:cNvPicPr/>
          <p:nvPr/>
        </p:nvPicPr>
        <p:blipFill>
          <a:blip r:embed="rId5"/>
          <a:stretch/>
        </p:blipFill>
        <p:spPr>
          <a:xfrm>
            <a:off x="539640" y="5535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874" name="Picture 6" descr="星08"/>
          <p:cNvPicPr/>
          <p:nvPr/>
        </p:nvPicPr>
        <p:blipFill>
          <a:blip r:embed="rId6"/>
          <a:stretch/>
        </p:blipFill>
        <p:spPr>
          <a:xfrm>
            <a:off x="7451640" y="1197000"/>
            <a:ext cx="1258920" cy="790560"/>
          </a:xfrm>
          <a:prstGeom prst="rect">
            <a:avLst/>
          </a:prstGeom>
          <a:ln w="0">
            <a:noFill/>
          </a:ln>
        </p:spPr>
      </p:pic>
      <p:sp>
        <p:nvSpPr>
          <p:cNvPr id="1875" name="WordArt 7"/>
          <p:cNvSpPr txBox="1"/>
          <p:nvPr/>
        </p:nvSpPr>
        <p:spPr>
          <a:xfrm>
            <a:off x="1476360" y="2924280"/>
            <a:ext cx="5832360" cy="71280"/>
          </a:xfrm>
          <a:prstGeom prst="rect">
            <a:avLst/>
          </a:prstGeom>
        </p:spPr>
        <p:txBody>
          <a:bodyPr wrap="none" fromWordArt="1" lIns="90000" rIns="90000" tIns="24840" bIns="24840" anchor="t" anchorCtr="1">
            <a:prstTxWarp prst="textArchUp">
              <a:avLst>
                <a:gd name="adj" fmla="val 108003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 u="sng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uFillTx/>
                <a:latin typeface="宋体"/>
              </a:rPr>
              <a:t>再见</a:t>
            </a:r>
            <a:endParaRPr b="1" i="1" lang="en-US" sz="6600" spc="-1" strike="noStrike" u="sng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uFillTx/>
              <a:latin typeface="宋体"/>
              <a:ea typeface="宋体"/>
            </a:endParaRPr>
          </a:p>
        </p:txBody>
      </p:sp>
      <p:pic>
        <p:nvPicPr>
          <p:cNvPr id="1876" name="Picture 8" descr="星08"/>
          <p:cNvPicPr/>
          <p:nvPr/>
        </p:nvPicPr>
        <p:blipFill>
          <a:blip r:embed="rId9"/>
          <a:stretch/>
        </p:blipFill>
        <p:spPr>
          <a:xfrm>
            <a:off x="539640" y="476280"/>
            <a:ext cx="884520" cy="884160"/>
          </a:xfrm>
          <a:prstGeom prst="rect">
            <a:avLst/>
          </a:prstGeom>
          <a:ln w="0">
            <a:noFill/>
          </a:ln>
        </p:spPr>
      </p:pic>
      <p:pic>
        <p:nvPicPr>
          <p:cNvPr id="1877" name="Picture 9" descr="星08"/>
          <p:cNvPicPr/>
          <p:nvPr/>
        </p:nvPicPr>
        <p:blipFill>
          <a:blip r:embed="rId10"/>
          <a:stretch/>
        </p:blipFill>
        <p:spPr>
          <a:xfrm>
            <a:off x="676440" y="987480"/>
            <a:ext cx="1258560" cy="790560"/>
          </a:xfrm>
          <a:prstGeom prst="rect">
            <a:avLst/>
          </a:prstGeom>
          <a:ln w="0">
            <a:noFill/>
          </a:ln>
        </p:spPr>
      </p:pic>
      <p:pic>
        <p:nvPicPr>
          <p:cNvPr id="1878" name="Picture 10" descr="星08"/>
          <p:cNvPicPr/>
          <p:nvPr/>
        </p:nvPicPr>
        <p:blipFill>
          <a:blip r:embed="rId11"/>
          <a:stretch/>
        </p:blipFill>
        <p:spPr>
          <a:xfrm>
            <a:off x="7451640" y="522936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879" name="Picture 11" descr="星08"/>
          <p:cNvPicPr/>
          <p:nvPr/>
        </p:nvPicPr>
        <p:blipFill>
          <a:blip r:embed="rId12"/>
          <a:stretch/>
        </p:blipFill>
        <p:spPr>
          <a:xfrm>
            <a:off x="7588080" y="5740560"/>
            <a:ext cx="1258920" cy="7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一、复习导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2"/>
          <p:cNvSpPr/>
          <p:nvPr/>
        </p:nvSpPr>
        <p:spPr>
          <a:xfrm>
            <a:off x="357120" y="1484280"/>
            <a:ext cx="6240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阅读下面的句子，说说你的理解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6" name="Rectangle 2"/>
          <p:cNvSpPr/>
          <p:nvPr/>
        </p:nvSpPr>
        <p:spPr>
          <a:xfrm>
            <a:off x="636480" y="2243160"/>
            <a:ext cx="6240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男生人数占全班人数的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487" name="组合 19460"/>
          <p:cNvGrpSpPr/>
          <p:nvPr/>
        </p:nvGrpSpPr>
        <p:grpSpPr>
          <a:xfrm>
            <a:off x="4172040" y="2060640"/>
            <a:ext cx="511200" cy="888120"/>
            <a:chOff x="4172040" y="2060640"/>
            <a:chExt cx="511200" cy="888120"/>
          </a:xfrm>
        </p:grpSpPr>
        <p:sp>
          <p:nvSpPr>
            <p:cNvPr id="1488" name="文本框 19461"/>
            <p:cNvSpPr/>
            <p:nvPr/>
          </p:nvSpPr>
          <p:spPr>
            <a:xfrm>
              <a:off x="4178520" y="2415960"/>
              <a:ext cx="504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5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89" name="文本框 19462"/>
            <p:cNvSpPr/>
            <p:nvPr/>
          </p:nvSpPr>
          <p:spPr>
            <a:xfrm>
              <a:off x="4172040" y="2060640"/>
              <a:ext cx="36036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90" name="直接连接符 19463"/>
            <p:cNvSpPr/>
            <p:nvPr/>
          </p:nvSpPr>
          <p:spPr>
            <a:xfrm>
              <a:off x="4199040" y="252396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491" name="组合 19464"/>
          <p:cNvGrpSpPr/>
          <p:nvPr/>
        </p:nvGrpSpPr>
        <p:grpSpPr>
          <a:xfrm>
            <a:off x="401760" y="4429080"/>
            <a:ext cx="8286480" cy="923040"/>
            <a:chOff x="401760" y="4429080"/>
            <a:chExt cx="8286480" cy="923040"/>
          </a:xfrm>
        </p:grpSpPr>
        <p:sp>
          <p:nvSpPr>
            <p:cNvPr id="1492" name="Rectangle 2"/>
            <p:cNvSpPr/>
            <p:nvPr/>
          </p:nvSpPr>
          <p:spPr>
            <a:xfrm>
              <a:off x="401760" y="4429080"/>
              <a:ext cx="82864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问题：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.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你知道了什么？（男生人数与全班人数比较：全班人数是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   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单位“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”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，男生人数占全班人数的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。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493" name="组合 19466"/>
            <p:cNvGrpSpPr/>
            <p:nvPr/>
          </p:nvGrpSpPr>
          <p:grpSpPr>
            <a:xfrm>
              <a:off x="5543640" y="4537080"/>
              <a:ext cx="511200" cy="815040"/>
              <a:chOff x="5543640" y="4537080"/>
              <a:chExt cx="511200" cy="815040"/>
            </a:xfrm>
          </p:grpSpPr>
          <p:sp>
            <p:nvSpPr>
              <p:cNvPr id="1494" name="文本框 19467"/>
              <p:cNvSpPr/>
              <p:nvPr/>
            </p:nvSpPr>
            <p:spPr>
              <a:xfrm>
                <a:off x="5550120" y="48924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495" name="文本框 19468"/>
              <p:cNvSpPr/>
              <p:nvPr/>
            </p:nvSpPr>
            <p:spPr>
              <a:xfrm>
                <a:off x="5543640" y="45370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496" name="直接连接符 19469"/>
              <p:cNvSpPr/>
              <p:nvPr/>
            </p:nvSpPr>
            <p:spPr>
              <a:xfrm>
                <a:off x="5559480" y="49561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497" name="组合 19470"/>
          <p:cNvGrpSpPr/>
          <p:nvPr/>
        </p:nvGrpSpPr>
        <p:grpSpPr>
          <a:xfrm>
            <a:off x="1779480" y="2637000"/>
            <a:ext cx="3583800" cy="1379520"/>
            <a:chOff x="1779480" y="2637000"/>
            <a:chExt cx="3583800" cy="1379520"/>
          </a:xfrm>
        </p:grpSpPr>
        <p:grpSp>
          <p:nvGrpSpPr>
            <p:cNvPr id="1498" name="组合 19471"/>
            <p:cNvGrpSpPr/>
            <p:nvPr/>
          </p:nvGrpSpPr>
          <p:grpSpPr>
            <a:xfrm>
              <a:off x="2556000" y="3075120"/>
              <a:ext cx="511200" cy="815040"/>
              <a:chOff x="2556000" y="3075120"/>
              <a:chExt cx="511200" cy="815040"/>
            </a:xfrm>
          </p:grpSpPr>
          <p:sp>
            <p:nvSpPr>
              <p:cNvPr id="1499" name="文本框 19472"/>
              <p:cNvSpPr/>
              <p:nvPr/>
            </p:nvSpPr>
            <p:spPr>
              <a:xfrm>
                <a:off x="2562480" y="34304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00" name="文本框 19473"/>
              <p:cNvSpPr/>
              <p:nvPr/>
            </p:nvSpPr>
            <p:spPr>
              <a:xfrm>
                <a:off x="2556000" y="30751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01" name="直接连接符 19474"/>
              <p:cNvSpPr/>
              <p:nvPr/>
            </p:nvSpPr>
            <p:spPr>
              <a:xfrm>
                <a:off x="2571840" y="34941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502" name="组合 19475"/>
            <p:cNvGrpSpPr/>
            <p:nvPr/>
          </p:nvGrpSpPr>
          <p:grpSpPr>
            <a:xfrm>
              <a:off x="1779480" y="2637000"/>
              <a:ext cx="3583800" cy="1379520"/>
              <a:chOff x="1779480" y="2637000"/>
              <a:chExt cx="3583800" cy="1379520"/>
            </a:xfrm>
          </p:grpSpPr>
          <p:grpSp>
            <p:nvGrpSpPr>
              <p:cNvPr id="1503" name="组合 19476"/>
              <p:cNvGrpSpPr/>
              <p:nvPr/>
            </p:nvGrpSpPr>
            <p:grpSpPr>
              <a:xfrm>
                <a:off x="1782360" y="3945240"/>
                <a:ext cx="3580920" cy="71280"/>
                <a:chOff x="1782360" y="3945240"/>
                <a:chExt cx="3580920" cy="71280"/>
              </a:xfrm>
            </p:grpSpPr>
            <p:grpSp>
              <p:nvGrpSpPr>
                <p:cNvPr id="1504" name="组合 19477"/>
                <p:cNvGrpSpPr/>
                <p:nvPr/>
              </p:nvGrpSpPr>
              <p:grpSpPr>
                <a:xfrm>
                  <a:off x="1782360" y="3945240"/>
                  <a:ext cx="718200" cy="71280"/>
                  <a:chOff x="1782360" y="3945240"/>
                  <a:chExt cx="718200" cy="71280"/>
                </a:xfrm>
              </p:grpSpPr>
              <p:sp>
                <p:nvSpPr>
                  <p:cNvPr id="1505" name="直接连接符 19478"/>
                  <p:cNvSpPr/>
                  <p:nvPr/>
                </p:nvSpPr>
                <p:spPr>
                  <a:xfrm>
                    <a:off x="1782360" y="4016520"/>
                    <a:ext cx="7182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06" name="直接连接符 19479"/>
                  <p:cNvSpPr/>
                  <p:nvPr/>
                </p:nvSpPr>
                <p:spPr>
                  <a:xfrm>
                    <a:off x="1782360" y="394524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507" name="组合 19480"/>
                <p:cNvGrpSpPr/>
                <p:nvPr/>
              </p:nvGrpSpPr>
              <p:grpSpPr>
                <a:xfrm>
                  <a:off x="2496240" y="3945240"/>
                  <a:ext cx="718560" cy="71280"/>
                  <a:chOff x="2496240" y="3945240"/>
                  <a:chExt cx="718560" cy="71280"/>
                </a:xfrm>
              </p:grpSpPr>
              <p:sp>
                <p:nvSpPr>
                  <p:cNvPr id="1508" name="直接连接符 19481"/>
                  <p:cNvSpPr/>
                  <p:nvPr/>
                </p:nvSpPr>
                <p:spPr>
                  <a:xfrm>
                    <a:off x="2496240" y="4016520"/>
                    <a:ext cx="7185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09" name="直接连接符 19482"/>
                  <p:cNvSpPr/>
                  <p:nvPr/>
                </p:nvSpPr>
                <p:spPr>
                  <a:xfrm>
                    <a:off x="2496240" y="394524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510" name="组合 19483"/>
                <p:cNvGrpSpPr/>
                <p:nvPr/>
              </p:nvGrpSpPr>
              <p:grpSpPr>
                <a:xfrm>
                  <a:off x="3210480" y="3945240"/>
                  <a:ext cx="718200" cy="71280"/>
                  <a:chOff x="3210480" y="3945240"/>
                  <a:chExt cx="718200" cy="71280"/>
                </a:xfrm>
              </p:grpSpPr>
              <p:sp>
                <p:nvSpPr>
                  <p:cNvPr id="1511" name="直接连接符 19484"/>
                  <p:cNvSpPr/>
                  <p:nvPr/>
                </p:nvSpPr>
                <p:spPr>
                  <a:xfrm>
                    <a:off x="3210480" y="4016520"/>
                    <a:ext cx="7182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12" name="直接连接符 19485"/>
                  <p:cNvSpPr/>
                  <p:nvPr/>
                </p:nvSpPr>
                <p:spPr>
                  <a:xfrm>
                    <a:off x="3210480" y="394524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513" name="组合 19486"/>
                <p:cNvGrpSpPr/>
                <p:nvPr/>
              </p:nvGrpSpPr>
              <p:grpSpPr>
                <a:xfrm>
                  <a:off x="3929040" y="3945240"/>
                  <a:ext cx="718560" cy="71280"/>
                  <a:chOff x="3929040" y="3945240"/>
                  <a:chExt cx="718560" cy="71280"/>
                </a:xfrm>
              </p:grpSpPr>
              <p:sp>
                <p:nvSpPr>
                  <p:cNvPr id="1514" name="直接连接符 19487"/>
                  <p:cNvSpPr/>
                  <p:nvPr/>
                </p:nvSpPr>
                <p:spPr>
                  <a:xfrm>
                    <a:off x="3929040" y="4016520"/>
                    <a:ext cx="7185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15" name="直接连接符 19488"/>
                  <p:cNvSpPr/>
                  <p:nvPr/>
                </p:nvSpPr>
                <p:spPr>
                  <a:xfrm>
                    <a:off x="3929040" y="394524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516" name="组合 19489"/>
                <p:cNvGrpSpPr/>
                <p:nvPr/>
              </p:nvGrpSpPr>
              <p:grpSpPr>
                <a:xfrm>
                  <a:off x="4644720" y="3945240"/>
                  <a:ext cx="718560" cy="71280"/>
                  <a:chOff x="4644720" y="3945240"/>
                  <a:chExt cx="718560" cy="71280"/>
                </a:xfrm>
              </p:grpSpPr>
              <p:sp>
                <p:nvSpPr>
                  <p:cNvPr id="1517" name="直接连接符 19490"/>
                  <p:cNvSpPr/>
                  <p:nvPr/>
                </p:nvSpPr>
                <p:spPr>
                  <a:xfrm>
                    <a:off x="4644720" y="4016520"/>
                    <a:ext cx="7185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18" name="直接连接符 19491"/>
                  <p:cNvSpPr/>
                  <p:nvPr/>
                </p:nvSpPr>
                <p:spPr>
                  <a:xfrm>
                    <a:off x="4644720" y="394524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1519" name="直接连接符 19492"/>
                <p:cNvSpPr/>
                <p:nvPr/>
              </p:nvSpPr>
              <p:spPr>
                <a:xfrm>
                  <a:off x="5358600" y="3945240"/>
                  <a:ext cx="0" cy="71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520" name="左大括号 19493"/>
              <p:cNvSpPr/>
              <p:nvPr/>
            </p:nvSpPr>
            <p:spPr>
              <a:xfrm flipV="1" rot="5400000">
                <a:off x="2415960" y="3106440"/>
                <a:ext cx="144720" cy="1383840"/>
              </a:xfrm>
              <a:custGeom>
                <a:avLst/>
                <a:gdLst>
                  <a:gd name="textAreaLeft" fmla="*/ 92520 w 144720"/>
                  <a:gd name="textAreaRight" fmla="*/ 145080 w 144720"/>
                  <a:gd name="textAreaTop" fmla="*/ 36000 h 1383840"/>
                  <a:gd name="textAreaBottom" fmla="*/ 1347840 h 1383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21" name="文本框 19494"/>
              <p:cNvSpPr/>
              <p:nvPr/>
            </p:nvSpPr>
            <p:spPr>
              <a:xfrm>
                <a:off x="1991880" y="3251520"/>
                <a:ext cx="100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男生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22" name="左大括号 19495"/>
              <p:cNvSpPr/>
              <p:nvPr/>
            </p:nvSpPr>
            <p:spPr>
              <a:xfrm flipV="1" rot="5400000">
                <a:off x="3423960" y="1378080"/>
                <a:ext cx="293760" cy="3583080"/>
              </a:xfrm>
              <a:custGeom>
                <a:avLst/>
                <a:gdLst>
                  <a:gd name="textAreaLeft" fmla="*/ 187560 w 293760"/>
                  <a:gd name="textAreaRight" fmla="*/ 294120 w 293760"/>
                  <a:gd name="textAreaTop" fmla="*/ 93240 h 3583080"/>
                  <a:gd name="textAreaBottom" fmla="*/ 3489840 h 358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23" name="文本框 19496"/>
              <p:cNvSpPr/>
              <p:nvPr/>
            </p:nvSpPr>
            <p:spPr>
              <a:xfrm>
                <a:off x="3137760" y="2637000"/>
                <a:ext cx="86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“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”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524" name="组合 19497"/>
          <p:cNvGrpSpPr/>
          <p:nvPr/>
        </p:nvGrpSpPr>
        <p:grpSpPr>
          <a:xfrm>
            <a:off x="744480" y="5157720"/>
            <a:ext cx="7858080" cy="1258200"/>
            <a:chOff x="744480" y="5157720"/>
            <a:chExt cx="7858080" cy="1258200"/>
          </a:xfrm>
        </p:grpSpPr>
        <p:sp>
          <p:nvSpPr>
            <p:cNvPr id="1525" name="Rectangle 2"/>
            <p:cNvSpPr/>
            <p:nvPr/>
          </p:nvSpPr>
          <p:spPr>
            <a:xfrm>
              <a:off x="744480" y="5445000"/>
              <a:ext cx="7858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.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你还能想到什么？（女生人数占全班人数的    ，男生人数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是女生人数的   ，女生人数是男生人数的   ，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……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26" name="组合 19499"/>
            <p:cNvGrpSpPr/>
            <p:nvPr/>
          </p:nvGrpSpPr>
          <p:grpSpPr>
            <a:xfrm>
              <a:off x="6472080" y="5157720"/>
              <a:ext cx="511200" cy="815040"/>
              <a:chOff x="6472080" y="5157720"/>
              <a:chExt cx="511200" cy="815040"/>
            </a:xfrm>
          </p:grpSpPr>
          <p:sp>
            <p:nvSpPr>
              <p:cNvPr id="1527" name="文本框 19500"/>
              <p:cNvSpPr/>
              <p:nvPr/>
            </p:nvSpPr>
            <p:spPr>
              <a:xfrm>
                <a:off x="6478560" y="55130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28" name="文本框 19501"/>
              <p:cNvSpPr/>
              <p:nvPr/>
            </p:nvSpPr>
            <p:spPr>
              <a:xfrm>
                <a:off x="6472080" y="5157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29" name="直接连接符 19502"/>
              <p:cNvSpPr/>
              <p:nvPr/>
            </p:nvSpPr>
            <p:spPr>
              <a:xfrm>
                <a:off x="6487920" y="55767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530" name="组合 19503"/>
            <p:cNvGrpSpPr/>
            <p:nvPr/>
          </p:nvGrpSpPr>
          <p:grpSpPr>
            <a:xfrm>
              <a:off x="3020760" y="5600880"/>
              <a:ext cx="511200" cy="815040"/>
              <a:chOff x="3020760" y="5600880"/>
              <a:chExt cx="511200" cy="815040"/>
            </a:xfrm>
          </p:grpSpPr>
          <p:sp>
            <p:nvSpPr>
              <p:cNvPr id="1531" name="文本框 19504"/>
              <p:cNvSpPr/>
              <p:nvPr/>
            </p:nvSpPr>
            <p:spPr>
              <a:xfrm>
                <a:off x="3027240" y="59562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32" name="文本框 19505"/>
              <p:cNvSpPr/>
              <p:nvPr/>
            </p:nvSpPr>
            <p:spPr>
              <a:xfrm>
                <a:off x="3020760" y="56008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33" name="直接连接符 19506"/>
              <p:cNvSpPr/>
              <p:nvPr/>
            </p:nvSpPr>
            <p:spPr>
              <a:xfrm>
                <a:off x="3036600" y="60199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534" name="组合 19507"/>
            <p:cNvGrpSpPr/>
            <p:nvPr/>
          </p:nvGrpSpPr>
          <p:grpSpPr>
            <a:xfrm>
              <a:off x="6249960" y="5594400"/>
              <a:ext cx="511200" cy="815040"/>
              <a:chOff x="6249960" y="5594400"/>
              <a:chExt cx="511200" cy="815040"/>
            </a:xfrm>
          </p:grpSpPr>
          <p:sp>
            <p:nvSpPr>
              <p:cNvPr id="1535" name="文本框 19508"/>
              <p:cNvSpPr/>
              <p:nvPr/>
            </p:nvSpPr>
            <p:spPr>
              <a:xfrm>
                <a:off x="6256440" y="59497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36" name="文本框 19509"/>
              <p:cNvSpPr/>
              <p:nvPr/>
            </p:nvSpPr>
            <p:spPr>
              <a:xfrm>
                <a:off x="6249960" y="55944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37" name="直接连接符 19510"/>
              <p:cNvSpPr/>
              <p:nvPr/>
            </p:nvSpPr>
            <p:spPr>
              <a:xfrm>
                <a:off x="6265800" y="60134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538" name="矩形 19512"/>
          <p:cNvSpPr/>
          <p:nvPr/>
        </p:nvSpPr>
        <p:spPr>
          <a:xfrm>
            <a:off x="198000" y="5440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9" name="矩形 19513"/>
          <p:cNvSpPr/>
          <p:nvPr/>
        </p:nvSpPr>
        <p:spPr>
          <a:xfrm>
            <a:off x="414000" y="5656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引入情境，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Rectangle 2"/>
          <p:cNvSpPr/>
          <p:nvPr/>
        </p:nvSpPr>
        <p:spPr>
          <a:xfrm>
            <a:off x="395280" y="1413000"/>
            <a:ext cx="6105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一）收集信息，明确条件问题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42" name="图片 20483" descr="36"/>
          <p:cNvPicPr/>
          <p:nvPr/>
        </p:nvPicPr>
        <p:blipFill>
          <a:blip r:embed="rId1"/>
          <a:stretch/>
        </p:blipFill>
        <p:spPr>
          <a:xfrm>
            <a:off x="1547640" y="1916280"/>
            <a:ext cx="5942160" cy="2158920"/>
          </a:xfrm>
          <a:prstGeom prst="rect">
            <a:avLst/>
          </a:prstGeom>
          <a:ln w="0">
            <a:noFill/>
          </a:ln>
        </p:spPr>
      </p:pic>
      <p:sp>
        <p:nvSpPr>
          <p:cNvPr id="1543" name="矩形 20484"/>
          <p:cNvSpPr/>
          <p:nvPr/>
        </p:nvSpPr>
        <p:spPr>
          <a:xfrm>
            <a:off x="1574640" y="3933720"/>
            <a:ext cx="30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小明重多少千克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44" name="组合 20485"/>
          <p:cNvGrpSpPr/>
          <p:nvPr/>
        </p:nvGrpSpPr>
        <p:grpSpPr>
          <a:xfrm>
            <a:off x="179280" y="4881600"/>
            <a:ext cx="8750520" cy="1018080"/>
            <a:chOff x="179280" y="4881600"/>
            <a:chExt cx="8750520" cy="1018080"/>
          </a:xfrm>
        </p:grpSpPr>
        <p:sp>
          <p:nvSpPr>
            <p:cNvPr id="1545" name="Rectangle 2"/>
            <p:cNvSpPr/>
            <p:nvPr/>
          </p:nvSpPr>
          <p:spPr>
            <a:xfrm>
              <a:off x="179280" y="4881600"/>
              <a:ext cx="875052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问题：你知道了什么？（小明体内的水分重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8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kg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，小明体内的水分占体重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的     ，要求的是小明的体重。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46" name="组合 20487"/>
            <p:cNvGrpSpPr/>
            <p:nvPr/>
          </p:nvGrpSpPr>
          <p:grpSpPr>
            <a:xfrm>
              <a:off x="1324080" y="5084640"/>
              <a:ext cx="511200" cy="815040"/>
              <a:chOff x="1324080" y="5084640"/>
              <a:chExt cx="511200" cy="815040"/>
            </a:xfrm>
          </p:grpSpPr>
          <p:sp>
            <p:nvSpPr>
              <p:cNvPr id="1547" name="文本框 20488"/>
              <p:cNvSpPr/>
              <p:nvPr/>
            </p:nvSpPr>
            <p:spPr>
              <a:xfrm>
                <a:off x="1330560" y="54399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48" name="文本框 20489"/>
              <p:cNvSpPr/>
              <p:nvPr/>
            </p:nvSpPr>
            <p:spPr>
              <a:xfrm>
                <a:off x="1324080" y="5084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49" name="直接连接符 20490"/>
              <p:cNvSpPr/>
              <p:nvPr/>
            </p:nvSpPr>
            <p:spPr>
              <a:xfrm>
                <a:off x="1339920" y="55036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550" name="矩形 20492"/>
          <p:cNvSpPr/>
          <p:nvPr/>
        </p:nvSpPr>
        <p:spPr>
          <a:xfrm>
            <a:off x="198000" y="5440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1" name="矩形 20493"/>
          <p:cNvSpPr/>
          <p:nvPr/>
        </p:nvSpPr>
        <p:spPr>
          <a:xfrm>
            <a:off x="414000" y="5656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引入情境，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3" name="Rectangle 2"/>
          <p:cNvSpPr/>
          <p:nvPr/>
        </p:nvSpPr>
        <p:spPr>
          <a:xfrm>
            <a:off x="395280" y="1413000"/>
            <a:ext cx="60339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二）画图分析，理解数量关系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4" name="Rectangle 2"/>
          <p:cNvSpPr/>
          <p:nvPr/>
        </p:nvSpPr>
        <p:spPr>
          <a:xfrm>
            <a:off x="1143000" y="1928880"/>
            <a:ext cx="40006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根据题目的意思，画出线段图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5" name="Rectangle 2"/>
          <p:cNvSpPr/>
          <p:nvPr/>
        </p:nvSpPr>
        <p:spPr>
          <a:xfrm>
            <a:off x="693720" y="5794200"/>
            <a:ext cx="821520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3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成人的信息与问题有关系吗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56" name="组合 21509"/>
          <p:cNvGrpSpPr/>
          <p:nvPr/>
        </p:nvGrpSpPr>
        <p:grpSpPr>
          <a:xfrm>
            <a:off x="1979640" y="2409840"/>
            <a:ext cx="3598920" cy="1958400"/>
            <a:chOff x="1979640" y="2409840"/>
            <a:chExt cx="3598920" cy="1958400"/>
          </a:xfrm>
        </p:grpSpPr>
        <p:grpSp>
          <p:nvGrpSpPr>
            <p:cNvPr id="1557" name="组合 21510"/>
            <p:cNvGrpSpPr/>
            <p:nvPr/>
          </p:nvGrpSpPr>
          <p:grpSpPr>
            <a:xfrm>
              <a:off x="3845160" y="2409840"/>
              <a:ext cx="511200" cy="815040"/>
              <a:chOff x="3845160" y="2409840"/>
              <a:chExt cx="511200" cy="815040"/>
            </a:xfrm>
          </p:grpSpPr>
          <p:sp>
            <p:nvSpPr>
              <p:cNvPr id="1558" name="文本框 21511"/>
              <p:cNvSpPr/>
              <p:nvPr/>
            </p:nvSpPr>
            <p:spPr>
              <a:xfrm>
                <a:off x="3851640" y="27651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59" name="文本框 21512"/>
              <p:cNvSpPr/>
              <p:nvPr/>
            </p:nvSpPr>
            <p:spPr>
              <a:xfrm>
                <a:off x="3845160" y="24098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60" name="直接连接符 21513"/>
              <p:cNvSpPr/>
              <p:nvPr/>
            </p:nvSpPr>
            <p:spPr>
              <a:xfrm>
                <a:off x="3861000" y="28288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561" name="组合 21514"/>
            <p:cNvGrpSpPr/>
            <p:nvPr/>
          </p:nvGrpSpPr>
          <p:grpSpPr>
            <a:xfrm>
              <a:off x="1979640" y="2546640"/>
              <a:ext cx="3598920" cy="1821600"/>
              <a:chOff x="1979640" y="2546640"/>
              <a:chExt cx="3598920" cy="1821600"/>
            </a:xfrm>
          </p:grpSpPr>
          <p:grpSp>
            <p:nvGrpSpPr>
              <p:cNvPr id="1562" name="组合 21515"/>
              <p:cNvGrpSpPr/>
              <p:nvPr/>
            </p:nvGrpSpPr>
            <p:grpSpPr>
              <a:xfrm>
                <a:off x="1982880" y="3240360"/>
                <a:ext cx="3582720" cy="71280"/>
                <a:chOff x="1982880" y="3240360"/>
                <a:chExt cx="3582720" cy="71280"/>
              </a:xfrm>
            </p:grpSpPr>
            <p:grpSp>
              <p:nvGrpSpPr>
                <p:cNvPr id="1563" name="组合 21516"/>
                <p:cNvGrpSpPr/>
                <p:nvPr/>
              </p:nvGrpSpPr>
              <p:grpSpPr>
                <a:xfrm>
                  <a:off x="1982880" y="3240360"/>
                  <a:ext cx="718920" cy="71280"/>
                  <a:chOff x="1982880" y="3240360"/>
                  <a:chExt cx="718920" cy="71280"/>
                </a:xfrm>
              </p:grpSpPr>
              <p:sp>
                <p:nvSpPr>
                  <p:cNvPr id="1564" name="直接连接符 21517"/>
                  <p:cNvSpPr/>
                  <p:nvPr/>
                </p:nvSpPr>
                <p:spPr>
                  <a:xfrm>
                    <a:off x="1982880" y="3311640"/>
                    <a:ext cx="7189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65" name="直接连接符 21518"/>
                  <p:cNvSpPr/>
                  <p:nvPr/>
                </p:nvSpPr>
                <p:spPr>
                  <a:xfrm>
                    <a:off x="1982880" y="324036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566" name="组合 21519"/>
                <p:cNvGrpSpPr/>
                <p:nvPr/>
              </p:nvGrpSpPr>
              <p:grpSpPr>
                <a:xfrm>
                  <a:off x="2697120" y="3240360"/>
                  <a:ext cx="718920" cy="71280"/>
                  <a:chOff x="2697120" y="3240360"/>
                  <a:chExt cx="718920" cy="71280"/>
                </a:xfrm>
              </p:grpSpPr>
              <p:sp>
                <p:nvSpPr>
                  <p:cNvPr id="1567" name="直接连接符 21520"/>
                  <p:cNvSpPr/>
                  <p:nvPr/>
                </p:nvSpPr>
                <p:spPr>
                  <a:xfrm>
                    <a:off x="2697120" y="3311640"/>
                    <a:ext cx="7189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68" name="直接连接符 21521"/>
                  <p:cNvSpPr/>
                  <p:nvPr/>
                </p:nvSpPr>
                <p:spPr>
                  <a:xfrm>
                    <a:off x="2697120" y="324036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569" name="组合 21522"/>
                <p:cNvGrpSpPr/>
                <p:nvPr/>
              </p:nvGrpSpPr>
              <p:grpSpPr>
                <a:xfrm>
                  <a:off x="3411720" y="3240360"/>
                  <a:ext cx="718920" cy="71280"/>
                  <a:chOff x="3411720" y="3240360"/>
                  <a:chExt cx="718920" cy="71280"/>
                </a:xfrm>
              </p:grpSpPr>
              <p:sp>
                <p:nvSpPr>
                  <p:cNvPr id="1570" name="直接连接符 21523"/>
                  <p:cNvSpPr/>
                  <p:nvPr/>
                </p:nvSpPr>
                <p:spPr>
                  <a:xfrm>
                    <a:off x="3411720" y="3311640"/>
                    <a:ext cx="7189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71" name="直接连接符 21524"/>
                  <p:cNvSpPr/>
                  <p:nvPr/>
                </p:nvSpPr>
                <p:spPr>
                  <a:xfrm>
                    <a:off x="3411720" y="324036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572" name="组合 21525"/>
                <p:cNvGrpSpPr/>
                <p:nvPr/>
              </p:nvGrpSpPr>
              <p:grpSpPr>
                <a:xfrm>
                  <a:off x="4130640" y="3240360"/>
                  <a:ext cx="718920" cy="71280"/>
                  <a:chOff x="4130640" y="3240360"/>
                  <a:chExt cx="718920" cy="71280"/>
                </a:xfrm>
              </p:grpSpPr>
              <p:sp>
                <p:nvSpPr>
                  <p:cNvPr id="1573" name="直接连接符 21526"/>
                  <p:cNvSpPr/>
                  <p:nvPr/>
                </p:nvSpPr>
                <p:spPr>
                  <a:xfrm>
                    <a:off x="4130640" y="3311640"/>
                    <a:ext cx="7189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74" name="直接连接符 21527"/>
                  <p:cNvSpPr/>
                  <p:nvPr/>
                </p:nvSpPr>
                <p:spPr>
                  <a:xfrm>
                    <a:off x="4130640" y="324036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575" name="组合 21528"/>
                <p:cNvGrpSpPr/>
                <p:nvPr/>
              </p:nvGrpSpPr>
              <p:grpSpPr>
                <a:xfrm>
                  <a:off x="4846680" y="3240360"/>
                  <a:ext cx="718920" cy="71280"/>
                  <a:chOff x="4846680" y="3240360"/>
                  <a:chExt cx="718920" cy="71280"/>
                </a:xfrm>
              </p:grpSpPr>
              <p:sp>
                <p:nvSpPr>
                  <p:cNvPr id="1576" name="直接连接符 21529"/>
                  <p:cNvSpPr/>
                  <p:nvPr/>
                </p:nvSpPr>
                <p:spPr>
                  <a:xfrm>
                    <a:off x="4846680" y="3311640"/>
                    <a:ext cx="7189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77" name="直接连接符 21530"/>
                  <p:cNvSpPr/>
                  <p:nvPr/>
                </p:nvSpPr>
                <p:spPr>
                  <a:xfrm>
                    <a:off x="4846680" y="324036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1578" name="直接连接符 21531"/>
                <p:cNvSpPr/>
                <p:nvPr/>
              </p:nvSpPr>
              <p:spPr>
                <a:xfrm>
                  <a:off x="5560920" y="3240360"/>
                  <a:ext cx="0" cy="71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579" name="左大括号 21532"/>
              <p:cNvSpPr/>
              <p:nvPr/>
            </p:nvSpPr>
            <p:spPr>
              <a:xfrm flipV="1" rot="5400000">
                <a:off x="3314520" y="1691280"/>
                <a:ext cx="204840" cy="2862000"/>
              </a:xfrm>
              <a:custGeom>
                <a:avLst/>
                <a:gdLst>
                  <a:gd name="textAreaLeft" fmla="*/ 131040 w 204840"/>
                  <a:gd name="textAreaRight" fmla="*/ 205200 w 204840"/>
                  <a:gd name="textAreaTop" fmla="*/ 74520 h 2862000"/>
                  <a:gd name="textAreaBottom" fmla="*/ 2787480 h 286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80" name="文本框 21533"/>
              <p:cNvSpPr/>
              <p:nvPr/>
            </p:nvSpPr>
            <p:spPr>
              <a:xfrm>
                <a:off x="2192400" y="2546640"/>
                <a:ext cx="187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水分占体重的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81" name="左大括号 21534"/>
              <p:cNvSpPr/>
              <p:nvPr/>
            </p:nvSpPr>
            <p:spPr>
              <a:xfrm rot="16200000">
                <a:off x="3308400" y="2041200"/>
                <a:ext cx="204840" cy="2862360"/>
              </a:xfrm>
              <a:custGeom>
                <a:avLst/>
                <a:gdLst>
                  <a:gd name="textAreaLeft" fmla="*/ 131040 w 204840"/>
                  <a:gd name="textAreaRight" fmla="*/ 205200 w 204840"/>
                  <a:gd name="textAreaTop" fmla="*/ 74520 h 2862360"/>
                  <a:gd name="textAreaBottom" fmla="*/ 2787840 h 286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82" name="矩形 21535"/>
              <p:cNvSpPr/>
              <p:nvPr/>
            </p:nvSpPr>
            <p:spPr>
              <a:xfrm>
                <a:off x="2822760" y="3454560"/>
                <a:ext cx="151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水分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8kg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83" name="左大括号 21536"/>
              <p:cNvSpPr/>
              <p:nvPr/>
            </p:nvSpPr>
            <p:spPr>
              <a:xfrm rot="16200000">
                <a:off x="3670920" y="2110680"/>
                <a:ext cx="216000" cy="3598920"/>
              </a:xfrm>
              <a:custGeom>
                <a:avLst/>
                <a:gdLst>
                  <a:gd name="textAreaLeft" fmla="*/ 137880 w 216000"/>
                  <a:gd name="textAreaRight" fmla="*/ 216360 w 216000"/>
                  <a:gd name="textAreaTop" fmla="*/ 93600 h 3598920"/>
                  <a:gd name="textAreaBottom" fmla="*/ 3505320 h 359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84" name="矩形 21537"/>
              <p:cNvSpPr/>
              <p:nvPr/>
            </p:nvSpPr>
            <p:spPr>
              <a:xfrm>
                <a:off x="3133800" y="3908520"/>
                <a:ext cx="151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体重？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kg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585" name="组合 21538"/>
          <p:cNvGrpSpPr/>
          <p:nvPr/>
        </p:nvGrpSpPr>
        <p:grpSpPr>
          <a:xfrm>
            <a:off x="-84240" y="4437000"/>
            <a:ext cx="9614160" cy="1040400"/>
            <a:chOff x="-84240" y="4437000"/>
            <a:chExt cx="9614160" cy="1040400"/>
          </a:xfrm>
        </p:grpSpPr>
        <p:sp>
          <p:nvSpPr>
            <p:cNvPr id="1586" name="Rectangle 2"/>
            <p:cNvSpPr/>
            <p:nvPr/>
          </p:nvSpPr>
          <p:spPr>
            <a:xfrm>
              <a:off x="-84240" y="4437000"/>
              <a:ext cx="96141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问题：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.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看图，说明图意。（小明身体中水分的重量与体重做比较：小明的体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   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重是单位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“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”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，小明体内的水分占体重的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，求小明的体重是多少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kg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87" name="组合 21540"/>
            <p:cNvGrpSpPr/>
            <p:nvPr/>
          </p:nvGrpSpPr>
          <p:grpSpPr>
            <a:xfrm>
              <a:off x="5816520" y="4662360"/>
              <a:ext cx="511200" cy="815040"/>
              <a:chOff x="5816520" y="4662360"/>
              <a:chExt cx="511200" cy="815040"/>
            </a:xfrm>
          </p:grpSpPr>
          <p:sp>
            <p:nvSpPr>
              <p:cNvPr id="1588" name="文本框 21541"/>
              <p:cNvSpPr/>
              <p:nvPr/>
            </p:nvSpPr>
            <p:spPr>
              <a:xfrm>
                <a:off x="5823000" y="50176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89" name="文本框 21542"/>
              <p:cNvSpPr/>
              <p:nvPr/>
            </p:nvSpPr>
            <p:spPr>
              <a:xfrm>
                <a:off x="5816520" y="4662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90" name="直接连接符 21543"/>
              <p:cNvSpPr/>
              <p:nvPr/>
            </p:nvSpPr>
            <p:spPr>
              <a:xfrm>
                <a:off x="5832360" y="50814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591" name="组合 21544"/>
          <p:cNvGrpSpPr/>
          <p:nvPr/>
        </p:nvGrpSpPr>
        <p:grpSpPr>
          <a:xfrm>
            <a:off x="689040" y="5251320"/>
            <a:ext cx="8712000" cy="815040"/>
            <a:chOff x="689040" y="5251320"/>
            <a:chExt cx="8712000" cy="815040"/>
          </a:xfrm>
        </p:grpSpPr>
        <p:sp>
          <p:nvSpPr>
            <p:cNvPr id="1592" name="Rectangle 2"/>
            <p:cNvSpPr/>
            <p:nvPr/>
          </p:nvSpPr>
          <p:spPr>
            <a:xfrm>
              <a:off x="689040" y="5300280"/>
              <a:ext cx="87120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.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你能列出一个等量关系吗？（小明的体重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小明体内水分的质量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93" name="组合 21546"/>
            <p:cNvGrpSpPr/>
            <p:nvPr/>
          </p:nvGrpSpPr>
          <p:grpSpPr>
            <a:xfrm>
              <a:off x="5871960" y="5251320"/>
              <a:ext cx="511200" cy="815040"/>
              <a:chOff x="5871960" y="5251320"/>
              <a:chExt cx="511200" cy="815040"/>
            </a:xfrm>
          </p:grpSpPr>
          <p:sp>
            <p:nvSpPr>
              <p:cNvPr id="1594" name="文本框 21547"/>
              <p:cNvSpPr/>
              <p:nvPr/>
            </p:nvSpPr>
            <p:spPr>
              <a:xfrm>
                <a:off x="5878440" y="56066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95" name="文本框 21548"/>
              <p:cNvSpPr/>
              <p:nvPr/>
            </p:nvSpPr>
            <p:spPr>
              <a:xfrm>
                <a:off x="5871960" y="52513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96" name="直接连接符 21549"/>
              <p:cNvSpPr/>
              <p:nvPr/>
            </p:nvSpPr>
            <p:spPr>
              <a:xfrm>
                <a:off x="5887800" y="56703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597" name="矩形 21551"/>
          <p:cNvSpPr/>
          <p:nvPr/>
        </p:nvSpPr>
        <p:spPr>
          <a:xfrm>
            <a:off x="198000" y="5440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二、引入情境，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Rectangle 2"/>
          <p:cNvSpPr/>
          <p:nvPr/>
        </p:nvSpPr>
        <p:spPr>
          <a:xfrm>
            <a:off x="684360" y="5313240"/>
            <a:ext cx="626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谁能结合线段图说说对这种解法的理解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0" name="Rectangle 2"/>
          <p:cNvSpPr/>
          <p:nvPr/>
        </p:nvSpPr>
        <p:spPr>
          <a:xfrm>
            <a:off x="395280" y="1413000"/>
            <a:ext cx="56055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三）读懂过程，感悟不同方法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1" name="Rectangle 2"/>
          <p:cNvSpPr/>
          <p:nvPr/>
        </p:nvSpPr>
        <p:spPr>
          <a:xfrm>
            <a:off x="1471680" y="5948280"/>
            <a:ext cx="705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还有其他的解法吗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2" name="Rectangle 2"/>
          <p:cNvSpPr/>
          <p:nvPr/>
        </p:nvSpPr>
        <p:spPr>
          <a:xfrm>
            <a:off x="846000" y="1965240"/>
            <a:ext cx="2305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5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预设</a:t>
            </a:r>
            <a:r>
              <a:rPr b="0" i="1" lang="en-US" sz="25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5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：</a:t>
            </a:r>
            <a:endParaRPr b="0" i="1" lang="en-US" sz="25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3" name="Rectangle 2"/>
          <p:cNvSpPr/>
          <p:nvPr/>
        </p:nvSpPr>
        <p:spPr>
          <a:xfrm>
            <a:off x="4224240" y="1866960"/>
            <a:ext cx="230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5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25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预设</a:t>
            </a:r>
            <a:r>
              <a:rPr b="0" i="1" lang="en-US" sz="25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5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：</a:t>
            </a:r>
            <a:endParaRPr b="0" i="1" lang="en-US" sz="25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4" name="Rectangle 2"/>
          <p:cNvSpPr/>
          <p:nvPr/>
        </p:nvSpPr>
        <p:spPr>
          <a:xfrm>
            <a:off x="6154560" y="1855800"/>
            <a:ext cx="230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5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25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预设</a:t>
            </a:r>
            <a:r>
              <a:rPr b="0" i="1" lang="en-US" sz="25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5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：</a:t>
            </a:r>
            <a:endParaRPr b="0" i="1" lang="en-US" sz="25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5" name="矩形 22536"/>
          <p:cNvSpPr/>
          <p:nvPr/>
        </p:nvSpPr>
        <p:spPr>
          <a:xfrm>
            <a:off x="846000" y="2424240"/>
            <a:ext cx="3240360" cy="2668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6" name="矩形 66"/>
          <p:cNvSpPr/>
          <p:nvPr/>
        </p:nvSpPr>
        <p:spPr>
          <a:xfrm>
            <a:off x="882720" y="3056040"/>
            <a:ext cx="306072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07" name="组合 22538"/>
          <p:cNvGrpSpPr/>
          <p:nvPr/>
        </p:nvGrpSpPr>
        <p:grpSpPr>
          <a:xfrm>
            <a:off x="846000" y="2382840"/>
            <a:ext cx="4013280" cy="2642400"/>
            <a:chOff x="846000" y="2382840"/>
            <a:chExt cx="4013280" cy="2642400"/>
          </a:xfrm>
        </p:grpSpPr>
        <p:sp>
          <p:nvSpPr>
            <p:cNvPr id="1608" name="文本框 22539"/>
            <p:cNvSpPr/>
            <p:nvPr/>
          </p:nvSpPr>
          <p:spPr>
            <a:xfrm>
              <a:off x="846000" y="2382840"/>
              <a:ext cx="401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宋体"/>
                  <a:ea typeface="宋体"/>
                </a:rPr>
                <a:t>解：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设小明的体重是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kg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09" name="文本框 22540"/>
            <p:cNvSpPr/>
            <p:nvPr/>
          </p:nvSpPr>
          <p:spPr>
            <a:xfrm>
              <a:off x="1771560" y="2944800"/>
              <a:ext cx="247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10" name="组合 22541"/>
            <p:cNvGrpSpPr/>
            <p:nvPr/>
          </p:nvGrpSpPr>
          <p:grpSpPr>
            <a:xfrm>
              <a:off x="1461960" y="2774880"/>
              <a:ext cx="547560" cy="846720"/>
              <a:chOff x="1461960" y="2774880"/>
              <a:chExt cx="547560" cy="846720"/>
            </a:xfrm>
          </p:grpSpPr>
          <p:sp>
            <p:nvSpPr>
              <p:cNvPr id="1611" name="文本框 22542"/>
              <p:cNvSpPr/>
              <p:nvPr/>
            </p:nvSpPr>
            <p:spPr>
              <a:xfrm>
                <a:off x="1468800" y="3161880"/>
                <a:ext cx="54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12" name="文本框 22543"/>
              <p:cNvSpPr/>
              <p:nvPr/>
            </p:nvSpPr>
            <p:spPr>
              <a:xfrm>
                <a:off x="1461960" y="2774880"/>
                <a:ext cx="38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13" name="直接连接符 22544"/>
              <p:cNvSpPr/>
              <p:nvPr/>
            </p:nvSpPr>
            <p:spPr>
              <a:xfrm>
                <a:off x="1478880" y="3231360"/>
                <a:ext cx="308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14" name="矩形 22545"/>
            <p:cNvSpPr/>
            <p:nvPr/>
          </p:nvSpPr>
          <p:spPr>
            <a:xfrm>
              <a:off x="1776240" y="3490920"/>
              <a:ext cx="142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8÷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15" name="组合 22546"/>
            <p:cNvGrpSpPr/>
            <p:nvPr/>
          </p:nvGrpSpPr>
          <p:grpSpPr>
            <a:xfrm>
              <a:off x="2805120" y="3271680"/>
              <a:ext cx="547200" cy="846720"/>
              <a:chOff x="2805120" y="3271680"/>
              <a:chExt cx="547200" cy="846720"/>
            </a:xfrm>
          </p:grpSpPr>
          <p:sp>
            <p:nvSpPr>
              <p:cNvPr id="1616" name="文本框 22547"/>
              <p:cNvSpPr/>
              <p:nvPr/>
            </p:nvSpPr>
            <p:spPr>
              <a:xfrm>
                <a:off x="2811960" y="3658680"/>
                <a:ext cx="54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17" name="文本框 22548"/>
              <p:cNvSpPr/>
              <p:nvPr/>
            </p:nvSpPr>
            <p:spPr>
              <a:xfrm>
                <a:off x="2805120" y="3271680"/>
                <a:ext cx="38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18" name="直接连接符 22549"/>
              <p:cNvSpPr/>
              <p:nvPr/>
            </p:nvSpPr>
            <p:spPr>
              <a:xfrm>
                <a:off x="2822040" y="3728160"/>
                <a:ext cx="307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19" name="矩形 22550"/>
            <p:cNvSpPr/>
            <p:nvPr/>
          </p:nvSpPr>
          <p:spPr>
            <a:xfrm>
              <a:off x="1795320" y="4125960"/>
              <a:ext cx="13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8×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20" name="组合 22551"/>
            <p:cNvGrpSpPr/>
            <p:nvPr/>
          </p:nvGrpSpPr>
          <p:grpSpPr>
            <a:xfrm>
              <a:off x="2801880" y="3917880"/>
              <a:ext cx="547560" cy="846720"/>
              <a:chOff x="2801880" y="3917880"/>
              <a:chExt cx="547560" cy="846720"/>
            </a:xfrm>
          </p:grpSpPr>
          <p:sp>
            <p:nvSpPr>
              <p:cNvPr id="1621" name="文本框 22552"/>
              <p:cNvSpPr/>
              <p:nvPr/>
            </p:nvSpPr>
            <p:spPr>
              <a:xfrm>
                <a:off x="2808720" y="4304880"/>
                <a:ext cx="54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22" name="文本框 22553"/>
              <p:cNvSpPr/>
              <p:nvPr/>
            </p:nvSpPr>
            <p:spPr>
              <a:xfrm>
                <a:off x="2801880" y="3917880"/>
                <a:ext cx="38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23" name="直接连接符 22554"/>
              <p:cNvSpPr/>
              <p:nvPr/>
            </p:nvSpPr>
            <p:spPr>
              <a:xfrm>
                <a:off x="2818800" y="4374360"/>
                <a:ext cx="308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24" name="文本框 22555"/>
            <p:cNvSpPr/>
            <p:nvPr/>
          </p:nvSpPr>
          <p:spPr>
            <a:xfrm>
              <a:off x="1795320" y="4565520"/>
              <a:ext cx="247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625" name="矩形 22556"/>
          <p:cNvSpPr/>
          <p:nvPr/>
        </p:nvSpPr>
        <p:spPr>
          <a:xfrm>
            <a:off x="4525920" y="2411280"/>
            <a:ext cx="1515960" cy="1738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26" name="组合 22557"/>
          <p:cNvGrpSpPr/>
          <p:nvPr/>
        </p:nvGrpSpPr>
        <p:grpSpPr>
          <a:xfrm>
            <a:off x="4446720" y="2360520"/>
            <a:ext cx="2573280" cy="1631520"/>
            <a:chOff x="4446720" y="2360520"/>
            <a:chExt cx="2573280" cy="1631520"/>
          </a:xfrm>
        </p:grpSpPr>
        <p:sp>
          <p:nvSpPr>
            <p:cNvPr id="1627" name="矩形 22558"/>
            <p:cNvSpPr/>
            <p:nvPr/>
          </p:nvSpPr>
          <p:spPr>
            <a:xfrm>
              <a:off x="4446720" y="2540160"/>
              <a:ext cx="14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8÷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28" name="组合 22559"/>
            <p:cNvGrpSpPr/>
            <p:nvPr/>
          </p:nvGrpSpPr>
          <p:grpSpPr>
            <a:xfrm>
              <a:off x="5367240" y="2360520"/>
              <a:ext cx="566280" cy="816840"/>
              <a:chOff x="5367240" y="2360520"/>
              <a:chExt cx="566280" cy="816840"/>
            </a:xfrm>
          </p:grpSpPr>
          <p:sp>
            <p:nvSpPr>
              <p:cNvPr id="1629" name="文本框 22560"/>
              <p:cNvSpPr/>
              <p:nvPr/>
            </p:nvSpPr>
            <p:spPr>
              <a:xfrm>
                <a:off x="5374080" y="2717640"/>
                <a:ext cx="55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30" name="文本框 22561"/>
              <p:cNvSpPr/>
              <p:nvPr/>
            </p:nvSpPr>
            <p:spPr>
              <a:xfrm>
                <a:off x="5367240" y="2360520"/>
                <a:ext cx="39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31" name="直接连接符 22562"/>
              <p:cNvSpPr/>
              <p:nvPr/>
            </p:nvSpPr>
            <p:spPr>
              <a:xfrm>
                <a:off x="5384520" y="2781720"/>
                <a:ext cx="318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32" name="矩形 22563"/>
            <p:cNvSpPr/>
            <p:nvPr/>
          </p:nvSpPr>
          <p:spPr>
            <a:xfrm>
              <a:off x="4465800" y="3125880"/>
              <a:ext cx="12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8×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33" name="组合 22564"/>
            <p:cNvGrpSpPr/>
            <p:nvPr/>
          </p:nvGrpSpPr>
          <p:grpSpPr>
            <a:xfrm>
              <a:off x="5391000" y="2946240"/>
              <a:ext cx="566280" cy="817200"/>
              <a:chOff x="5391000" y="2946240"/>
              <a:chExt cx="566280" cy="817200"/>
            </a:xfrm>
          </p:grpSpPr>
          <p:sp>
            <p:nvSpPr>
              <p:cNvPr id="1634" name="文本框 22565"/>
              <p:cNvSpPr/>
              <p:nvPr/>
            </p:nvSpPr>
            <p:spPr>
              <a:xfrm>
                <a:off x="5397840" y="3303720"/>
                <a:ext cx="55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35" name="文本框 22566"/>
              <p:cNvSpPr/>
              <p:nvPr/>
            </p:nvSpPr>
            <p:spPr>
              <a:xfrm>
                <a:off x="5391000" y="2946240"/>
                <a:ext cx="39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36" name="直接连接符 22567"/>
              <p:cNvSpPr/>
              <p:nvPr/>
            </p:nvSpPr>
            <p:spPr>
              <a:xfrm>
                <a:off x="5408280" y="3367800"/>
                <a:ext cx="318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37" name="文本框 22568"/>
            <p:cNvSpPr/>
            <p:nvPr/>
          </p:nvSpPr>
          <p:spPr>
            <a:xfrm>
              <a:off x="4465800" y="3532320"/>
              <a:ext cx="255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5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kg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38" name="组合 22569"/>
          <p:cNvGrpSpPr/>
          <p:nvPr/>
        </p:nvGrpSpPr>
        <p:grpSpPr>
          <a:xfrm>
            <a:off x="6462720" y="2409840"/>
            <a:ext cx="1925280" cy="1739520"/>
            <a:chOff x="6462720" y="2409840"/>
            <a:chExt cx="1925280" cy="1739520"/>
          </a:xfrm>
        </p:grpSpPr>
        <p:sp>
          <p:nvSpPr>
            <p:cNvPr id="1639" name="矩形 22570"/>
            <p:cNvSpPr/>
            <p:nvPr/>
          </p:nvSpPr>
          <p:spPr>
            <a:xfrm>
              <a:off x="6462720" y="2409840"/>
              <a:ext cx="1925280" cy="17395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40" name="文本框 22571"/>
            <p:cNvSpPr/>
            <p:nvPr/>
          </p:nvSpPr>
          <p:spPr>
            <a:xfrm>
              <a:off x="6542280" y="2487960"/>
              <a:ext cx="1766160" cy="15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8÷4×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×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5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kg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1" name="ShockwaveFlash1" descr=""/>
          <p:cNvPicPr/>
          <p:nvPr/>
        </p:nvPicPr>
        <p:blipFill>
          <a:blip r:embed="rId1"/>
          <a:stretch/>
        </p:blipFill>
        <p:spPr>
          <a:xfrm>
            <a:off x="357120" y="284040"/>
            <a:ext cx="8371080" cy="6280200"/>
          </a:xfrm>
          <a:prstGeom prst="rect">
            <a:avLst/>
          </a:prstGeom>
          <a:ln w="0">
            <a:noFill/>
          </a:ln>
        </p:spPr>
      </p:pic>
      <p:pic>
        <p:nvPicPr>
          <p:cNvPr id="1642" name="ShockwaveFlash2" descr=""/>
          <p:cNvPicPr/>
          <p:nvPr/>
        </p:nvPicPr>
        <p:blipFill>
          <a:blip r:embed="rId2"/>
          <a:stretch/>
        </p:blipFill>
        <p:spPr>
          <a:xfrm>
            <a:off x="357120" y="284040"/>
            <a:ext cx="8371080" cy="6280200"/>
          </a:xfrm>
          <a:prstGeom prst="rect">
            <a:avLst/>
          </a:prstGeom>
          <a:ln w="0">
            <a:noFill/>
          </a:ln>
        </p:spPr>
      </p:pic>
      <p:pic>
        <p:nvPicPr>
          <p:cNvPr id="1643" name="图片 23555" descr=""/>
          <p:cNvPicPr/>
          <p:nvPr/>
        </p:nvPicPr>
        <p:blipFill>
          <a:blip r:embed="rId3"/>
          <a:stretch/>
        </p:blipFill>
        <p:spPr>
          <a:xfrm>
            <a:off x="347760" y="266760"/>
            <a:ext cx="8381880" cy="62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二、引入情境，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Rectangle 2"/>
          <p:cNvSpPr/>
          <p:nvPr/>
        </p:nvSpPr>
        <p:spPr>
          <a:xfrm>
            <a:off x="395280" y="1413000"/>
            <a:ext cx="6605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四）回顾反思，沟通不同方法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6" name="Rectangle 2"/>
          <p:cNvSpPr/>
          <p:nvPr/>
        </p:nvSpPr>
        <p:spPr>
          <a:xfrm>
            <a:off x="1636560" y="5505480"/>
            <a:ext cx="7089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这些不同的算法中有什么相同点与不同点？（单位“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”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相同，数量之间的关系相同。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7" name="矩形 35"/>
          <p:cNvSpPr/>
          <p:nvPr/>
        </p:nvSpPr>
        <p:spPr>
          <a:xfrm>
            <a:off x="1857240" y="4214880"/>
            <a:ext cx="4572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8" name="矩形 24581"/>
          <p:cNvSpPr/>
          <p:nvPr/>
        </p:nvSpPr>
        <p:spPr>
          <a:xfrm>
            <a:off x="846000" y="2216160"/>
            <a:ext cx="3183120" cy="2448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9" name="矩形 66"/>
          <p:cNvSpPr/>
          <p:nvPr/>
        </p:nvSpPr>
        <p:spPr>
          <a:xfrm>
            <a:off x="880920" y="2795760"/>
            <a:ext cx="3008520" cy="19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50" name="组合 24583"/>
          <p:cNvGrpSpPr/>
          <p:nvPr/>
        </p:nvGrpSpPr>
        <p:grpSpPr>
          <a:xfrm>
            <a:off x="846000" y="2178000"/>
            <a:ext cx="3942000" cy="2463120"/>
            <a:chOff x="846000" y="2178000"/>
            <a:chExt cx="3942000" cy="2463120"/>
          </a:xfrm>
        </p:grpSpPr>
        <p:sp>
          <p:nvSpPr>
            <p:cNvPr id="1651" name="文本框 24584"/>
            <p:cNvSpPr/>
            <p:nvPr/>
          </p:nvSpPr>
          <p:spPr>
            <a:xfrm>
              <a:off x="846000" y="2178000"/>
              <a:ext cx="394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宋体"/>
                  <a:ea typeface="宋体"/>
                </a:rPr>
                <a:t>解：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设小明的体重是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kg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52" name="文本框 24585"/>
            <p:cNvSpPr/>
            <p:nvPr/>
          </p:nvSpPr>
          <p:spPr>
            <a:xfrm>
              <a:off x="1755720" y="2693880"/>
              <a:ext cx="24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53" name="组合 24586"/>
            <p:cNvGrpSpPr/>
            <p:nvPr/>
          </p:nvGrpSpPr>
          <p:grpSpPr>
            <a:xfrm>
              <a:off x="1450800" y="2538360"/>
              <a:ext cx="537480" cy="815040"/>
              <a:chOff x="1450800" y="2538360"/>
              <a:chExt cx="537480" cy="815040"/>
            </a:xfrm>
          </p:grpSpPr>
          <p:sp>
            <p:nvSpPr>
              <p:cNvPr id="1654" name="文本框 24587"/>
              <p:cNvSpPr/>
              <p:nvPr/>
            </p:nvSpPr>
            <p:spPr>
              <a:xfrm>
                <a:off x="1457280" y="2893680"/>
                <a:ext cx="53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55" name="文本框 24588"/>
              <p:cNvSpPr/>
              <p:nvPr/>
            </p:nvSpPr>
            <p:spPr>
              <a:xfrm>
                <a:off x="1450800" y="2538360"/>
                <a:ext cx="37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56" name="直接连接符 24589"/>
              <p:cNvSpPr/>
              <p:nvPr/>
            </p:nvSpPr>
            <p:spPr>
              <a:xfrm>
                <a:off x="1467360" y="2957400"/>
                <a:ext cx="302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57" name="矩形 24590"/>
            <p:cNvSpPr/>
            <p:nvPr/>
          </p:nvSpPr>
          <p:spPr>
            <a:xfrm>
              <a:off x="1760400" y="3195720"/>
              <a:ext cx="165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8÷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58" name="组合 24591"/>
            <p:cNvGrpSpPr/>
            <p:nvPr/>
          </p:nvGrpSpPr>
          <p:grpSpPr>
            <a:xfrm>
              <a:off x="2835360" y="2994120"/>
              <a:ext cx="537480" cy="815040"/>
              <a:chOff x="2835360" y="2994120"/>
              <a:chExt cx="537480" cy="815040"/>
            </a:xfrm>
          </p:grpSpPr>
          <p:sp>
            <p:nvSpPr>
              <p:cNvPr id="1659" name="文本框 24592"/>
              <p:cNvSpPr/>
              <p:nvPr/>
            </p:nvSpPr>
            <p:spPr>
              <a:xfrm>
                <a:off x="2841840" y="3349440"/>
                <a:ext cx="53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60" name="文本框 24593"/>
              <p:cNvSpPr/>
              <p:nvPr/>
            </p:nvSpPr>
            <p:spPr>
              <a:xfrm>
                <a:off x="2835360" y="2994120"/>
                <a:ext cx="37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61" name="直接连接符 24594"/>
              <p:cNvSpPr/>
              <p:nvPr/>
            </p:nvSpPr>
            <p:spPr>
              <a:xfrm>
                <a:off x="2851920" y="3413160"/>
                <a:ext cx="302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62" name="矩形 24595"/>
            <p:cNvSpPr/>
            <p:nvPr/>
          </p:nvSpPr>
          <p:spPr>
            <a:xfrm>
              <a:off x="1778040" y="3778200"/>
              <a:ext cx="149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8×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63" name="组合 24596"/>
            <p:cNvGrpSpPr/>
            <p:nvPr/>
          </p:nvGrpSpPr>
          <p:grpSpPr>
            <a:xfrm>
              <a:off x="2852640" y="3576600"/>
              <a:ext cx="537480" cy="815040"/>
              <a:chOff x="2852640" y="3576600"/>
              <a:chExt cx="537480" cy="815040"/>
            </a:xfrm>
          </p:grpSpPr>
          <p:sp>
            <p:nvSpPr>
              <p:cNvPr id="1664" name="文本框 24597"/>
              <p:cNvSpPr/>
              <p:nvPr/>
            </p:nvSpPr>
            <p:spPr>
              <a:xfrm>
                <a:off x="2859120" y="3931920"/>
                <a:ext cx="53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65" name="文本框 24598"/>
              <p:cNvSpPr/>
              <p:nvPr/>
            </p:nvSpPr>
            <p:spPr>
              <a:xfrm>
                <a:off x="2852640" y="3576600"/>
                <a:ext cx="37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66" name="直接连接符 24599"/>
              <p:cNvSpPr/>
              <p:nvPr/>
            </p:nvSpPr>
            <p:spPr>
              <a:xfrm>
                <a:off x="2869200" y="3995640"/>
                <a:ext cx="302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67" name="文本框 24600"/>
            <p:cNvSpPr/>
            <p:nvPr/>
          </p:nvSpPr>
          <p:spPr>
            <a:xfrm>
              <a:off x="1778040" y="4181400"/>
              <a:ext cx="242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68" name="组合 24601"/>
          <p:cNvGrpSpPr/>
          <p:nvPr/>
        </p:nvGrpSpPr>
        <p:grpSpPr>
          <a:xfrm>
            <a:off x="4446720" y="2144880"/>
            <a:ext cx="2573280" cy="1788840"/>
            <a:chOff x="4446720" y="2144880"/>
            <a:chExt cx="2573280" cy="1788840"/>
          </a:xfrm>
        </p:grpSpPr>
        <p:sp>
          <p:nvSpPr>
            <p:cNvPr id="1669" name="矩形 24602"/>
            <p:cNvSpPr/>
            <p:nvPr/>
          </p:nvSpPr>
          <p:spPr>
            <a:xfrm>
              <a:off x="4525920" y="2206800"/>
              <a:ext cx="1515960" cy="17269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70" name="矩形 24603"/>
            <p:cNvSpPr/>
            <p:nvPr/>
          </p:nvSpPr>
          <p:spPr>
            <a:xfrm>
              <a:off x="4446720" y="2333520"/>
              <a:ext cx="12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8÷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71" name="组合 24604"/>
            <p:cNvGrpSpPr/>
            <p:nvPr/>
          </p:nvGrpSpPr>
          <p:grpSpPr>
            <a:xfrm>
              <a:off x="5367240" y="2144880"/>
              <a:ext cx="566280" cy="815040"/>
              <a:chOff x="5367240" y="2144880"/>
              <a:chExt cx="566280" cy="815040"/>
            </a:xfrm>
          </p:grpSpPr>
          <p:sp>
            <p:nvSpPr>
              <p:cNvPr id="1672" name="文本框 24605"/>
              <p:cNvSpPr/>
              <p:nvPr/>
            </p:nvSpPr>
            <p:spPr>
              <a:xfrm>
                <a:off x="5374080" y="2500200"/>
                <a:ext cx="55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73" name="文本框 24606"/>
              <p:cNvSpPr/>
              <p:nvPr/>
            </p:nvSpPr>
            <p:spPr>
              <a:xfrm>
                <a:off x="5367240" y="2144880"/>
                <a:ext cx="39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74" name="直接连接符 24607"/>
              <p:cNvSpPr/>
              <p:nvPr/>
            </p:nvSpPr>
            <p:spPr>
              <a:xfrm>
                <a:off x="5384520" y="2563920"/>
                <a:ext cx="318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75" name="矩形 24608"/>
            <p:cNvSpPr/>
            <p:nvPr/>
          </p:nvSpPr>
          <p:spPr>
            <a:xfrm>
              <a:off x="4465800" y="2916360"/>
              <a:ext cx="154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8×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76" name="组合 24609"/>
            <p:cNvGrpSpPr/>
            <p:nvPr/>
          </p:nvGrpSpPr>
          <p:grpSpPr>
            <a:xfrm>
              <a:off x="5397480" y="2716200"/>
              <a:ext cx="565920" cy="815040"/>
              <a:chOff x="5397480" y="2716200"/>
              <a:chExt cx="565920" cy="815040"/>
            </a:xfrm>
          </p:grpSpPr>
          <p:sp>
            <p:nvSpPr>
              <p:cNvPr id="1677" name="文本框 24610"/>
              <p:cNvSpPr/>
              <p:nvPr/>
            </p:nvSpPr>
            <p:spPr>
              <a:xfrm>
                <a:off x="5404320" y="3071520"/>
                <a:ext cx="55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78" name="文本框 24611"/>
              <p:cNvSpPr/>
              <p:nvPr/>
            </p:nvSpPr>
            <p:spPr>
              <a:xfrm>
                <a:off x="5397480" y="2716200"/>
                <a:ext cx="399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79" name="直接连接符 24612"/>
              <p:cNvSpPr/>
              <p:nvPr/>
            </p:nvSpPr>
            <p:spPr>
              <a:xfrm>
                <a:off x="5414760" y="3135240"/>
                <a:ext cx="31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80" name="文本框 24613"/>
            <p:cNvSpPr/>
            <p:nvPr/>
          </p:nvSpPr>
          <p:spPr>
            <a:xfrm>
              <a:off x="4465800" y="3321000"/>
              <a:ext cx="255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5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kg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81" name="组合 24614"/>
          <p:cNvGrpSpPr/>
          <p:nvPr/>
        </p:nvGrpSpPr>
        <p:grpSpPr>
          <a:xfrm>
            <a:off x="6462720" y="2205000"/>
            <a:ext cx="1727280" cy="1584360"/>
            <a:chOff x="6462720" y="2205000"/>
            <a:chExt cx="1727280" cy="1584360"/>
          </a:xfrm>
        </p:grpSpPr>
        <p:sp>
          <p:nvSpPr>
            <p:cNvPr id="1682" name="矩形 24615"/>
            <p:cNvSpPr/>
            <p:nvPr/>
          </p:nvSpPr>
          <p:spPr>
            <a:xfrm>
              <a:off x="6462720" y="2205000"/>
              <a:ext cx="1727280" cy="1584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83" name="文本框 24616"/>
            <p:cNvSpPr/>
            <p:nvPr/>
          </p:nvSpPr>
          <p:spPr>
            <a:xfrm>
              <a:off x="6534360" y="2276280"/>
              <a:ext cx="1584360" cy="15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8÷4×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×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5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kg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84" name="组合 24617"/>
          <p:cNvGrpSpPr/>
          <p:nvPr/>
        </p:nvGrpSpPr>
        <p:grpSpPr>
          <a:xfrm>
            <a:off x="857160" y="4632480"/>
            <a:ext cx="7775640" cy="815040"/>
            <a:chOff x="857160" y="4632480"/>
            <a:chExt cx="7775640" cy="815040"/>
          </a:xfrm>
        </p:grpSpPr>
        <p:sp>
          <p:nvSpPr>
            <p:cNvPr id="1685" name="Rectangle 2"/>
            <p:cNvSpPr/>
            <p:nvPr/>
          </p:nvSpPr>
          <p:spPr>
            <a:xfrm>
              <a:off x="857160" y="4786200"/>
              <a:ext cx="77756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问题：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.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怎样检验结果是否正确？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5×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8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kg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))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86" name="组合 24619"/>
            <p:cNvGrpSpPr/>
            <p:nvPr/>
          </p:nvGrpSpPr>
          <p:grpSpPr>
            <a:xfrm>
              <a:off x="5595840" y="4632480"/>
              <a:ext cx="511200" cy="815040"/>
              <a:chOff x="5595840" y="4632480"/>
              <a:chExt cx="511200" cy="815040"/>
            </a:xfrm>
          </p:grpSpPr>
          <p:sp>
            <p:nvSpPr>
              <p:cNvPr id="1687" name="文本框 24620"/>
              <p:cNvSpPr/>
              <p:nvPr/>
            </p:nvSpPr>
            <p:spPr>
              <a:xfrm>
                <a:off x="5602320" y="49878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8" name="文本框 24621"/>
              <p:cNvSpPr/>
              <p:nvPr/>
            </p:nvSpPr>
            <p:spPr>
              <a:xfrm>
                <a:off x="5595840" y="46324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9" name="直接连接符 24622"/>
              <p:cNvSpPr/>
              <p:nvPr/>
            </p:nvSpPr>
            <p:spPr>
              <a:xfrm>
                <a:off x="5611680" y="50515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TextBox 26"/>
          <p:cNvSpPr/>
          <p:nvPr/>
        </p:nvSpPr>
        <p:spPr>
          <a:xfrm>
            <a:off x="395280" y="136836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一杯约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50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mL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的鲜牛奶大约含有 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g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的钙质，占一个成年人一天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所需钙质的     。一个成年人一天大约需要多少钙质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1" name="Rectangle 2"/>
          <p:cNvSpPr/>
          <p:nvPr/>
        </p:nvSpPr>
        <p:spPr>
          <a:xfrm>
            <a:off x="1406520" y="6335640"/>
            <a:ext cx="752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还有别的方法吗？交流与反馈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2" name="Rectangle 2"/>
          <p:cNvSpPr/>
          <p:nvPr/>
        </p:nvSpPr>
        <p:spPr>
          <a:xfrm>
            <a:off x="625320" y="5278320"/>
            <a:ext cx="62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知道了什么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3" name="Rectangle 2"/>
          <p:cNvSpPr/>
          <p:nvPr/>
        </p:nvSpPr>
        <p:spPr>
          <a:xfrm>
            <a:off x="1414440" y="5616720"/>
            <a:ext cx="705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根据题意画出线段图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4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三、巩固练习，提升认识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5" name="Rectangle 2"/>
          <p:cNvSpPr/>
          <p:nvPr/>
        </p:nvSpPr>
        <p:spPr>
          <a:xfrm>
            <a:off x="1406520" y="6070680"/>
            <a:ext cx="700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写出等量关系，列方程解决问题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96" name="组合 25607"/>
          <p:cNvGrpSpPr/>
          <p:nvPr/>
        </p:nvGrpSpPr>
        <p:grpSpPr>
          <a:xfrm>
            <a:off x="4356000" y="1268280"/>
            <a:ext cx="504720" cy="815400"/>
            <a:chOff x="4356000" y="1268280"/>
            <a:chExt cx="504720" cy="815400"/>
          </a:xfrm>
        </p:grpSpPr>
        <p:sp>
          <p:nvSpPr>
            <p:cNvPr id="1697" name="文本框 25608"/>
            <p:cNvSpPr/>
            <p:nvPr/>
          </p:nvSpPr>
          <p:spPr>
            <a:xfrm>
              <a:off x="4356000" y="16239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98" name="文本框 25609"/>
            <p:cNvSpPr/>
            <p:nvPr/>
          </p:nvSpPr>
          <p:spPr>
            <a:xfrm>
              <a:off x="4444920" y="1268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99" name="直接连接符 25610"/>
            <p:cNvSpPr/>
            <p:nvPr/>
          </p:nvSpPr>
          <p:spPr>
            <a:xfrm>
              <a:off x="4422600" y="16873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00" name="组合 25611"/>
          <p:cNvGrpSpPr/>
          <p:nvPr/>
        </p:nvGrpSpPr>
        <p:grpSpPr>
          <a:xfrm>
            <a:off x="2100240" y="1727280"/>
            <a:ext cx="511200" cy="815040"/>
            <a:chOff x="2100240" y="1727280"/>
            <a:chExt cx="511200" cy="815040"/>
          </a:xfrm>
        </p:grpSpPr>
        <p:sp>
          <p:nvSpPr>
            <p:cNvPr id="1701" name="文本框 25612"/>
            <p:cNvSpPr/>
            <p:nvPr/>
          </p:nvSpPr>
          <p:spPr>
            <a:xfrm>
              <a:off x="2106720" y="20826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02" name="文本框 25613"/>
            <p:cNvSpPr/>
            <p:nvPr/>
          </p:nvSpPr>
          <p:spPr>
            <a:xfrm>
              <a:off x="2100240" y="1727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03" name="直接连接符 25614"/>
            <p:cNvSpPr/>
            <p:nvPr/>
          </p:nvSpPr>
          <p:spPr>
            <a:xfrm>
              <a:off x="2116080" y="214632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04" name="组合 25615"/>
          <p:cNvGrpSpPr/>
          <p:nvPr/>
        </p:nvGrpSpPr>
        <p:grpSpPr>
          <a:xfrm>
            <a:off x="717480" y="2276640"/>
            <a:ext cx="4535640" cy="3204000"/>
            <a:chOff x="717480" y="2276640"/>
            <a:chExt cx="4535640" cy="3204000"/>
          </a:xfrm>
        </p:grpSpPr>
        <p:grpSp>
          <p:nvGrpSpPr>
            <p:cNvPr id="1705" name="组合 25616"/>
            <p:cNvGrpSpPr/>
            <p:nvPr/>
          </p:nvGrpSpPr>
          <p:grpSpPr>
            <a:xfrm>
              <a:off x="2392200" y="2874960"/>
              <a:ext cx="504720" cy="815400"/>
              <a:chOff x="2392200" y="2874960"/>
              <a:chExt cx="504720" cy="815400"/>
            </a:xfrm>
          </p:grpSpPr>
          <p:sp>
            <p:nvSpPr>
              <p:cNvPr id="1706" name="文本框 25617"/>
              <p:cNvSpPr/>
              <p:nvPr/>
            </p:nvSpPr>
            <p:spPr>
              <a:xfrm>
                <a:off x="2392200" y="32306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0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07" name="文本框 25618"/>
              <p:cNvSpPr/>
              <p:nvPr/>
            </p:nvSpPr>
            <p:spPr>
              <a:xfrm>
                <a:off x="2481120" y="28749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08" name="直接连接符 25619"/>
              <p:cNvSpPr/>
              <p:nvPr/>
            </p:nvSpPr>
            <p:spPr>
              <a:xfrm>
                <a:off x="2458800" y="32940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709" name="组合 25620"/>
            <p:cNvGrpSpPr/>
            <p:nvPr/>
          </p:nvGrpSpPr>
          <p:grpSpPr>
            <a:xfrm>
              <a:off x="717480" y="2276640"/>
              <a:ext cx="4535640" cy="3204000"/>
              <a:chOff x="717480" y="2276640"/>
              <a:chExt cx="4535640" cy="3204000"/>
            </a:xfrm>
          </p:grpSpPr>
          <p:sp>
            <p:nvSpPr>
              <p:cNvPr id="1710" name="Text Box 14"/>
              <p:cNvSpPr/>
              <p:nvPr/>
            </p:nvSpPr>
            <p:spPr>
              <a:xfrm>
                <a:off x="717480" y="2276640"/>
                <a:ext cx="45356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宋体"/>
                    <a:ea typeface="宋体"/>
                  </a:rPr>
                  <a:t>预设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：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宋体"/>
                    <a:ea typeface="宋体"/>
                  </a:rPr>
                  <a:t>解：设成年人一天大约需要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x 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g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宋体"/>
                    <a:ea typeface="宋体"/>
                  </a:rPr>
                  <a:t>钙质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。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711" name="组合 25622"/>
              <p:cNvGrpSpPr/>
              <p:nvPr/>
            </p:nvGrpSpPr>
            <p:grpSpPr>
              <a:xfrm>
                <a:off x="2479680" y="4665600"/>
                <a:ext cx="511200" cy="815040"/>
                <a:chOff x="2479680" y="4665600"/>
                <a:chExt cx="511200" cy="815040"/>
              </a:xfrm>
            </p:grpSpPr>
            <p:sp>
              <p:nvSpPr>
                <p:cNvPr id="1712" name="文本框 25623"/>
                <p:cNvSpPr/>
                <p:nvPr/>
              </p:nvSpPr>
              <p:spPr>
                <a:xfrm>
                  <a:off x="2486160" y="50209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13" name="文本框 25624"/>
                <p:cNvSpPr/>
                <p:nvPr/>
              </p:nvSpPr>
              <p:spPr>
                <a:xfrm>
                  <a:off x="2479680" y="46656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4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14" name="直接连接符 25625"/>
                <p:cNvSpPr/>
                <p:nvPr/>
              </p:nvSpPr>
              <p:spPr>
                <a:xfrm>
                  <a:off x="2495520" y="508464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715" name="文本框 25626"/>
              <p:cNvSpPr/>
              <p:nvPr/>
            </p:nvSpPr>
            <p:spPr>
              <a:xfrm>
                <a:off x="1974960" y="3041640"/>
                <a:ext cx="23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x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＝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716" name="组合 25627"/>
              <p:cNvGrpSpPr/>
              <p:nvPr/>
            </p:nvGrpSpPr>
            <p:grpSpPr>
              <a:xfrm>
                <a:off x="1685880" y="2886120"/>
                <a:ext cx="511200" cy="815040"/>
                <a:chOff x="1685880" y="2886120"/>
                <a:chExt cx="511200" cy="815040"/>
              </a:xfrm>
            </p:grpSpPr>
            <p:sp>
              <p:nvSpPr>
                <p:cNvPr id="1717" name="文本框 25628"/>
                <p:cNvSpPr/>
                <p:nvPr/>
              </p:nvSpPr>
              <p:spPr>
                <a:xfrm>
                  <a:off x="1692360" y="324144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8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18" name="文本框 25629"/>
                <p:cNvSpPr/>
                <p:nvPr/>
              </p:nvSpPr>
              <p:spPr>
                <a:xfrm>
                  <a:off x="1685880" y="288612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19" name="直接连接符 25630"/>
                <p:cNvSpPr/>
                <p:nvPr/>
              </p:nvSpPr>
              <p:spPr>
                <a:xfrm>
                  <a:off x="1701720" y="330516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720" name="矩形 25631"/>
              <p:cNvSpPr/>
              <p:nvPr/>
            </p:nvSpPr>
            <p:spPr>
              <a:xfrm>
                <a:off x="1990800" y="3598920"/>
                <a:ext cx="1860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x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＝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     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÷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721" name="组合 25632"/>
              <p:cNvGrpSpPr/>
              <p:nvPr/>
            </p:nvGrpSpPr>
            <p:grpSpPr>
              <a:xfrm>
                <a:off x="3054240" y="3441600"/>
                <a:ext cx="511200" cy="815040"/>
                <a:chOff x="3054240" y="3441600"/>
                <a:chExt cx="511200" cy="815040"/>
              </a:xfrm>
            </p:grpSpPr>
            <p:sp>
              <p:nvSpPr>
                <p:cNvPr id="1722" name="文本框 25633"/>
                <p:cNvSpPr/>
                <p:nvPr/>
              </p:nvSpPr>
              <p:spPr>
                <a:xfrm>
                  <a:off x="3060720" y="37969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8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23" name="文本框 25634"/>
                <p:cNvSpPr/>
                <p:nvPr/>
              </p:nvSpPr>
              <p:spPr>
                <a:xfrm>
                  <a:off x="3054240" y="34416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24" name="直接连接符 25635"/>
                <p:cNvSpPr/>
                <p:nvPr/>
              </p:nvSpPr>
              <p:spPr>
                <a:xfrm>
                  <a:off x="3070080" y="386064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725" name="矩形 25636"/>
              <p:cNvSpPr/>
              <p:nvPr/>
            </p:nvSpPr>
            <p:spPr>
              <a:xfrm>
                <a:off x="1996920" y="4218120"/>
                <a:ext cx="199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x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＝   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×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26" name="文本框 25637"/>
              <p:cNvSpPr/>
              <p:nvPr/>
            </p:nvSpPr>
            <p:spPr>
              <a:xfrm>
                <a:off x="2025720" y="4809960"/>
                <a:ext cx="669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x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＝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727" name="组合 25638"/>
              <p:cNvGrpSpPr/>
              <p:nvPr/>
            </p:nvGrpSpPr>
            <p:grpSpPr>
              <a:xfrm>
                <a:off x="2397240" y="3440160"/>
                <a:ext cx="504720" cy="815400"/>
                <a:chOff x="2397240" y="3440160"/>
                <a:chExt cx="504720" cy="815400"/>
              </a:xfrm>
            </p:grpSpPr>
            <p:sp>
              <p:nvSpPr>
                <p:cNvPr id="1728" name="文本框 25639"/>
                <p:cNvSpPr/>
                <p:nvPr/>
              </p:nvSpPr>
              <p:spPr>
                <a:xfrm>
                  <a:off x="2397240" y="379584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0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29" name="文本框 25640"/>
                <p:cNvSpPr/>
                <p:nvPr/>
              </p:nvSpPr>
              <p:spPr>
                <a:xfrm>
                  <a:off x="2486160" y="34401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30" name="直接连接符 25641"/>
                <p:cNvSpPr/>
                <p:nvPr/>
              </p:nvSpPr>
              <p:spPr>
                <a:xfrm>
                  <a:off x="2463840" y="385920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731" name="组合 25642"/>
              <p:cNvGrpSpPr/>
              <p:nvPr/>
            </p:nvGrpSpPr>
            <p:grpSpPr>
              <a:xfrm>
                <a:off x="3065400" y="4040280"/>
                <a:ext cx="511200" cy="815040"/>
                <a:chOff x="3065400" y="4040280"/>
                <a:chExt cx="511200" cy="815040"/>
              </a:xfrm>
            </p:grpSpPr>
            <p:sp>
              <p:nvSpPr>
                <p:cNvPr id="1732" name="文本框 25643"/>
                <p:cNvSpPr/>
                <p:nvPr/>
              </p:nvSpPr>
              <p:spPr>
                <a:xfrm>
                  <a:off x="3071880" y="439560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33" name="文本框 25644"/>
                <p:cNvSpPr/>
                <p:nvPr/>
              </p:nvSpPr>
              <p:spPr>
                <a:xfrm>
                  <a:off x="3065400" y="40402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8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34" name="直接连接符 25645"/>
                <p:cNvSpPr/>
                <p:nvPr/>
              </p:nvSpPr>
              <p:spPr>
                <a:xfrm>
                  <a:off x="3081240" y="445932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735" name="组合 25646"/>
              <p:cNvGrpSpPr/>
              <p:nvPr/>
            </p:nvGrpSpPr>
            <p:grpSpPr>
              <a:xfrm>
                <a:off x="2408400" y="4038480"/>
                <a:ext cx="504720" cy="815400"/>
                <a:chOff x="2408400" y="4038480"/>
                <a:chExt cx="504720" cy="815400"/>
              </a:xfrm>
            </p:grpSpPr>
            <p:sp>
              <p:nvSpPr>
                <p:cNvPr id="1736" name="文本框 25647"/>
                <p:cNvSpPr/>
                <p:nvPr/>
              </p:nvSpPr>
              <p:spPr>
                <a:xfrm>
                  <a:off x="2408400" y="43941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0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37" name="文本框 25648"/>
                <p:cNvSpPr/>
                <p:nvPr/>
              </p:nvSpPr>
              <p:spPr>
                <a:xfrm>
                  <a:off x="2497320" y="40384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38" name="直接连接符 25649"/>
                <p:cNvSpPr/>
                <p:nvPr/>
              </p:nvSpPr>
              <p:spPr>
                <a:xfrm>
                  <a:off x="2475000" y="445752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grpSp>
        <p:nvGrpSpPr>
          <p:cNvPr id="1739" name="组合 25650"/>
          <p:cNvGrpSpPr/>
          <p:nvPr/>
        </p:nvGrpSpPr>
        <p:grpSpPr>
          <a:xfrm>
            <a:off x="5397480" y="2343240"/>
            <a:ext cx="3457440" cy="2267640"/>
            <a:chOff x="5397480" y="2343240"/>
            <a:chExt cx="3457440" cy="2267640"/>
          </a:xfrm>
        </p:grpSpPr>
        <p:sp>
          <p:nvSpPr>
            <p:cNvPr id="1740" name="Text Box 18"/>
            <p:cNvSpPr/>
            <p:nvPr/>
          </p:nvSpPr>
          <p:spPr>
            <a:xfrm>
              <a:off x="5397480" y="2343240"/>
              <a:ext cx="345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：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41" name="组合 25652"/>
            <p:cNvGrpSpPr/>
            <p:nvPr/>
          </p:nvGrpSpPr>
          <p:grpSpPr>
            <a:xfrm>
              <a:off x="6462720" y="3795840"/>
              <a:ext cx="511200" cy="815040"/>
              <a:chOff x="6462720" y="3795840"/>
              <a:chExt cx="511200" cy="815040"/>
            </a:xfrm>
          </p:grpSpPr>
          <p:sp>
            <p:nvSpPr>
              <p:cNvPr id="1742" name="文本框 25653"/>
              <p:cNvSpPr/>
              <p:nvPr/>
            </p:nvSpPr>
            <p:spPr>
              <a:xfrm>
                <a:off x="6469200" y="41511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43" name="文本框 25654"/>
              <p:cNvSpPr/>
              <p:nvPr/>
            </p:nvSpPr>
            <p:spPr>
              <a:xfrm>
                <a:off x="6462720" y="37958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44" name="直接连接符 25655"/>
              <p:cNvSpPr/>
              <p:nvPr/>
            </p:nvSpPr>
            <p:spPr>
              <a:xfrm>
                <a:off x="6478560" y="42148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745" name="矩形 25656"/>
            <p:cNvSpPr/>
            <p:nvPr/>
          </p:nvSpPr>
          <p:spPr>
            <a:xfrm>
              <a:off x="5973840" y="2728800"/>
              <a:ext cx="169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÷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46" name="组合 25657"/>
            <p:cNvGrpSpPr/>
            <p:nvPr/>
          </p:nvGrpSpPr>
          <p:grpSpPr>
            <a:xfrm>
              <a:off x="7068960" y="2560680"/>
              <a:ext cx="511200" cy="815040"/>
              <a:chOff x="7068960" y="2560680"/>
              <a:chExt cx="511200" cy="815040"/>
            </a:xfrm>
          </p:grpSpPr>
          <p:sp>
            <p:nvSpPr>
              <p:cNvPr id="1747" name="文本框 25658"/>
              <p:cNvSpPr/>
              <p:nvPr/>
            </p:nvSpPr>
            <p:spPr>
              <a:xfrm>
                <a:off x="7075440" y="29160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48" name="文本框 25659"/>
              <p:cNvSpPr/>
              <p:nvPr/>
            </p:nvSpPr>
            <p:spPr>
              <a:xfrm>
                <a:off x="7068960" y="25606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49" name="直接连接符 25660"/>
              <p:cNvSpPr/>
              <p:nvPr/>
            </p:nvSpPr>
            <p:spPr>
              <a:xfrm>
                <a:off x="7084800" y="29797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750" name="矩形 25661"/>
            <p:cNvSpPr/>
            <p:nvPr/>
          </p:nvSpPr>
          <p:spPr>
            <a:xfrm>
              <a:off x="5979960" y="3348000"/>
              <a:ext cx="197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51" name="文本框 25662"/>
            <p:cNvSpPr/>
            <p:nvPr/>
          </p:nvSpPr>
          <p:spPr>
            <a:xfrm>
              <a:off x="6008760" y="3940200"/>
              <a:ext cx="257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   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g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52" name="组合 25663"/>
            <p:cNvGrpSpPr/>
            <p:nvPr/>
          </p:nvGrpSpPr>
          <p:grpSpPr>
            <a:xfrm>
              <a:off x="6356520" y="2558880"/>
              <a:ext cx="504720" cy="815400"/>
              <a:chOff x="6356520" y="2558880"/>
              <a:chExt cx="504720" cy="815400"/>
            </a:xfrm>
          </p:grpSpPr>
          <p:sp>
            <p:nvSpPr>
              <p:cNvPr id="1753" name="文本框 25664"/>
              <p:cNvSpPr/>
              <p:nvPr/>
            </p:nvSpPr>
            <p:spPr>
              <a:xfrm>
                <a:off x="6356520" y="29145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0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54" name="文本框 25665"/>
              <p:cNvSpPr/>
              <p:nvPr/>
            </p:nvSpPr>
            <p:spPr>
              <a:xfrm>
                <a:off x="6445440" y="25588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55" name="直接连接符 25666"/>
              <p:cNvSpPr/>
              <p:nvPr/>
            </p:nvSpPr>
            <p:spPr>
              <a:xfrm>
                <a:off x="6423120" y="29779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756" name="组合 25667"/>
            <p:cNvGrpSpPr/>
            <p:nvPr/>
          </p:nvGrpSpPr>
          <p:grpSpPr>
            <a:xfrm>
              <a:off x="7026120" y="3170160"/>
              <a:ext cx="511200" cy="815040"/>
              <a:chOff x="7026120" y="3170160"/>
              <a:chExt cx="511200" cy="815040"/>
            </a:xfrm>
          </p:grpSpPr>
          <p:sp>
            <p:nvSpPr>
              <p:cNvPr id="1757" name="文本框 25668"/>
              <p:cNvSpPr/>
              <p:nvPr/>
            </p:nvSpPr>
            <p:spPr>
              <a:xfrm>
                <a:off x="7032600" y="35254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58" name="文本框 25669"/>
              <p:cNvSpPr/>
              <p:nvPr/>
            </p:nvSpPr>
            <p:spPr>
              <a:xfrm>
                <a:off x="7026120" y="31701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59" name="直接连接符 25670"/>
              <p:cNvSpPr/>
              <p:nvPr/>
            </p:nvSpPr>
            <p:spPr>
              <a:xfrm>
                <a:off x="7041960" y="35892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760" name="组合 25671"/>
            <p:cNvGrpSpPr/>
            <p:nvPr/>
          </p:nvGrpSpPr>
          <p:grpSpPr>
            <a:xfrm>
              <a:off x="6380280" y="3168720"/>
              <a:ext cx="504720" cy="815400"/>
              <a:chOff x="6380280" y="3168720"/>
              <a:chExt cx="504720" cy="815400"/>
            </a:xfrm>
          </p:grpSpPr>
          <p:sp>
            <p:nvSpPr>
              <p:cNvPr id="1761" name="文本框 25672"/>
              <p:cNvSpPr/>
              <p:nvPr/>
            </p:nvSpPr>
            <p:spPr>
              <a:xfrm>
                <a:off x="6380280" y="35244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0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62" name="文本框 25673"/>
              <p:cNvSpPr/>
              <p:nvPr/>
            </p:nvSpPr>
            <p:spPr>
              <a:xfrm>
                <a:off x="6469200" y="3168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63" name="直接连接符 25674"/>
              <p:cNvSpPr/>
              <p:nvPr/>
            </p:nvSpPr>
            <p:spPr>
              <a:xfrm>
                <a:off x="6446880" y="35877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三、巩固练习，提升认识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65" name="Text Box 16"/>
          <p:cNvSpPr/>
          <p:nvPr/>
        </p:nvSpPr>
        <p:spPr>
          <a:xfrm>
            <a:off x="6178680" y="3106800"/>
            <a:ext cx="14079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6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千米／时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66" name="Rectangle 23"/>
          <p:cNvSpPr/>
          <p:nvPr/>
        </p:nvSpPr>
        <p:spPr>
          <a:xfrm>
            <a:off x="0" y="1341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767" name="组合 26628"/>
          <p:cNvGrpSpPr/>
          <p:nvPr/>
        </p:nvGrpSpPr>
        <p:grpSpPr>
          <a:xfrm>
            <a:off x="805680" y="1405080"/>
            <a:ext cx="5801040" cy="934920"/>
            <a:chOff x="805680" y="1405080"/>
            <a:chExt cx="5801040" cy="934920"/>
          </a:xfrm>
        </p:grpSpPr>
        <p:sp>
          <p:nvSpPr>
            <p:cNvPr id="1768" name="Rectangle 20"/>
            <p:cNvSpPr/>
            <p:nvPr/>
          </p:nvSpPr>
          <p:spPr>
            <a:xfrm>
              <a:off x="805680" y="1607400"/>
              <a:ext cx="258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.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自行车的速度是摩托车的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69" name="Rectangle 21"/>
            <p:cNvSpPr/>
            <p:nvPr/>
          </p:nvSpPr>
          <p:spPr>
            <a:xfrm>
              <a:off x="4444920" y="1575360"/>
              <a:ext cx="216180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，摩托车每小时行多少千米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70" name="组合 26631"/>
            <p:cNvGrpSpPr/>
            <p:nvPr/>
          </p:nvGrpSpPr>
          <p:grpSpPr>
            <a:xfrm>
              <a:off x="3533760" y="1405080"/>
              <a:ext cx="510480" cy="815040"/>
              <a:chOff x="3533760" y="1405080"/>
              <a:chExt cx="510480" cy="815040"/>
            </a:xfrm>
          </p:grpSpPr>
          <p:sp>
            <p:nvSpPr>
              <p:cNvPr id="1771" name="文本框 26632"/>
              <p:cNvSpPr/>
              <p:nvPr/>
            </p:nvSpPr>
            <p:spPr>
              <a:xfrm>
                <a:off x="3539880" y="176040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72" name="文本框 26633"/>
              <p:cNvSpPr/>
              <p:nvPr/>
            </p:nvSpPr>
            <p:spPr>
              <a:xfrm>
                <a:off x="3533760" y="140508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73" name="直接连接符 26634"/>
              <p:cNvSpPr/>
              <p:nvPr/>
            </p:nvSpPr>
            <p:spPr>
              <a:xfrm>
                <a:off x="3549240" y="182412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774" name="组合 26635"/>
          <p:cNvGrpSpPr/>
          <p:nvPr/>
        </p:nvGrpSpPr>
        <p:grpSpPr>
          <a:xfrm>
            <a:off x="395280" y="2138400"/>
            <a:ext cx="4535280" cy="2948760"/>
            <a:chOff x="395280" y="2138400"/>
            <a:chExt cx="4535280" cy="2948760"/>
          </a:xfrm>
        </p:grpSpPr>
        <p:sp>
          <p:nvSpPr>
            <p:cNvPr id="1775" name="Text Box 14"/>
            <p:cNvSpPr/>
            <p:nvPr/>
          </p:nvSpPr>
          <p:spPr>
            <a:xfrm>
              <a:off x="395280" y="2138400"/>
              <a:ext cx="453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预设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：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解：设摩托车每小时行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千米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76" name="文本框 26637"/>
            <p:cNvSpPr/>
            <p:nvPr/>
          </p:nvSpPr>
          <p:spPr>
            <a:xfrm>
              <a:off x="1652400" y="2903400"/>
              <a:ext cx="23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6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77" name="组合 26638"/>
            <p:cNvGrpSpPr/>
            <p:nvPr/>
          </p:nvGrpSpPr>
          <p:grpSpPr>
            <a:xfrm>
              <a:off x="1363680" y="2747880"/>
              <a:ext cx="511200" cy="815040"/>
              <a:chOff x="1363680" y="2747880"/>
              <a:chExt cx="511200" cy="815040"/>
            </a:xfrm>
          </p:grpSpPr>
          <p:sp>
            <p:nvSpPr>
              <p:cNvPr id="1778" name="文本框 26639"/>
              <p:cNvSpPr/>
              <p:nvPr/>
            </p:nvSpPr>
            <p:spPr>
              <a:xfrm>
                <a:off x="1370160" y="31032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79" name="文本框 26640"/>
              <p:cNvSpPr/>
              <p:nvPr/>
            </p:nvSpPr>
            <p:spPr>
              <a:xfrm>
                <a:off x="1363680" y="27478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80" name="直接连接符 26641"/>
              <p:cNvSpPr/>
              <p:nvPr/>
            </p:nvSpPr>
            <p:spPr>
              <a:xfrm>
                <a:off x="1379520" y="31669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781" name="矩形 26642"/>
            <p:cNvSpPr/>
            <p:nvPr/>
          </p:nvSpPr>
          <p:spPr>
            <a:xfrm>
              <a:off x="1725120" y="3460680"/>
              <a:ext cx="9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6÷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82" name="组合 26643"/>
            <p:cNvGrpSpPr/>
            <p:nvPr/>
          </p:nvGrpSpPr>
          <p:grpSpPr>
            <a:xfrm>
              <a:off x="2732040" y="3303360"/>
              <a:ext cx="511200" cy="815040"/>
              <a:chOff x="2732040" y="3303360"/>
              <a:chExt cx="511200" cy="815040"/>
            </a:xfrm>
          </p:grpSpPr>
          <p:sp>
            <p:nvSpPr>
              <p:cNvPr id="1783" name="文本框 26644"/>
              <p:cNvSpPr/>
              <p:nvPr/>
            </p:nvSpPr>
            <p:spPr>
              <a:xfrm>
                <a:off x="2738520" y="36586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84" name="文本框 26645"/>
              <p:cNvSpPr/>
              <p:nvPr/>
            </p:nvSpPr>
            <p:spPr>
              <a:xfrm>
                <a:off x="2732040" y="3303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85" name="直接连接符 26646"/>
              <p:cNvSpPr/>
              <p:nvPr/>
            </p:nvSpPr>
            <p:spPr>
              <a:xfrm>
                <a:off x="2747880" y="37224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786" name="矩形 26647"/>
            <p:cNvSpPr/>
            <p:nvPr/>
          </p:nvSpPr>
          <p:spPr>
            <a:xfrm>
              <a:off x="1725480" y="4078080"/>
              <a:ext cx="100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6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87" name="文本框 26648"/>
            <p:cNvSpPr/>
            <p:nvPr/>
          </p:nvSpPr>
          <p:spPr>
            <a:xfrm>
              <a:off x="1703160" y="4627440"/>
              <a:ext cx="106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88" name="组合 26649"/>
            <p:cNvGrpSpPr/>
            <p:nvPr/>
          </p:nvGrpSpPr>
          <p:grpSpPr>
            <a:xfrm>
              <a:off x="2743200" y="3902040"/>
              <a:ext cx="511200" cy="815040"/>
              <a:chOff x="2743200" y="3902040"/>
              <a:chExt cx="511200" cy="815040"/>
            </a:xfrm>
          </p:grpSpPr>
          <p:sp>
            <p:nvSpPr>
              <p:cNvPr id="1789" name="文本框 26650"/>
              <p:cNvSpPr/>
              <p:nvPr/>
            </p:nvSpPr>
            <p:spPr>
              <a:xfrm>
                <a:off x="2749680" y="42573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90" name="文本框 26651"/>
              <p:cNvSpPr/>
              <p:nvPr/>
            </p:nvSpPr>
            <p:spPr>
              <a:xfrm>
                <a:off x="2743200" y="39020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91" name="直接连接符 26652"/>
              <p:cNvSpPr/>
              <p:nvPr/>
            </p:nvSpPr>
            <p:spPr>
              <a:xfrm>
                <a:off x="2759040" y="43210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792" name="组合 26653"/>
          <p:cNvGrpSpPr/>
          <p:nvPr/>
        </p:nvGrpSpPr>
        <p:grpSpPr>
          <a:xfrm>
            <a:off x="3828960" y="2205000"/>
            <a:ext cx="4535280" cy="2018520"/>
            <a:chOff x="3828960" y="2205000"/>
            <a:chExt cx="4535280" cy="2018520"/>
          </a:xfrm>
        </p:grpSpPr>
        <p:sp>
          <p:nvSpPr>
            <p:cNvPr id="1793" name="Text Box 14"/>
            <p:cNvSpPr/>
            <p:nvPr/>
          </p:nvSpPr>
          <p:spPr>
            <a:xfrm>
              <a:off x="3828960" y="2205000"/>
              <a:ext cx="453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预设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：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94" name="组合 26655"/>
            <p:cNvGrpSpPr/>
            <p:nvPr/>
          </p:nvGrpSpPr>
          <p:grpSpPr>
            <a:xfrm>
              <a:off x="4153680" y="2439720"/>
              <a:ext cx="2699280" cy="1783800"/>
              <a:chOff x="4153680" y="2439720"/>
              <a:chExt cx="2699280" cy="1783800"/>
            </a:xfrm>
          </p:grpSpPr>
          <p:sp>
            <p:nvSpPr>
              <p:cNvPr id="1795" name="矩形 26656"/>
              <p:cNvSpPr/>
              <p:nvPr/>
            </p:nvSpPr>
            <p:spPr>
              <a:xfrm>
                <a:off x="4295160" y="2595600"/>
                <a:ext cx="102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      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6÷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796" name="组合 26657"/>
              <p:cNvGrpSpPr/>
              <p:nvPr/>
            </p:nvGrpSpPr>
            <p:grpSpPr>
              <a:xfrm>
                <a:off x="5300640" y="2439720"/>
                <a:ext cx="511200" cy="815040"/>
                <a:chOff x="5300640" y="2439720"/>
                <a:chExt cx="511200" cy="815040"/>
              </a:xfrm>
            </p:grpSpPr>
            <p:sp>
              <p:nvSpPr>
                <p:cNvPr id="1797" name="文本框 26658"/>
                <p:cNvSpPr/>
                <p:nvPr/>
              </p:nvSpPr>
              <p:spPr>
                <a:xfrm>
                  <a:off x="5307120" y="279504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98" name="文本框 26659"/>
                <p:cNvSpPr/>
                <p:nvPr/>
              </p:nvSpPr>
              <p:spPr>
                <a:xfrm>
                  <a:off x="5300640" y="243972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99" name="直接连接符 26660"/>
                <p:cNvSpPr/>
                <p:nvPr/>
              </p:nvSpPr>
              <p:spPr>
                <a:xfrm>
                  <a:off x="5316480" y="285876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800" name="矩形 26661"/>
              <p:cNvSpPr/>
              <p:nvPr/>
            </p:nvSpPr>
            <p:spPr>
              <a:xfrm>
                <a:off x="4153680" y="3214440"/>
                <a:ext cx="134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   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＝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6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×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01" name="文本框 26662"/>
              <p:cNvSpPr/>
              <p:nvPr/>
            </p:nvSpPr>
            <p:spPr>
              <a:xfrm>
                <a:off x="4271760" y="3763800"/>
                <a:ext cx="2581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   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＝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0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（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千米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）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802" name="组合 26663"/>
              <p:cNvGrpSpPr/>
              <p:nvPr/>
            </p:nvGrpSpPr>
            <p:grpSpPr>
              <a:xfrm>
                <a:off x="5311800" y="3038400"/>
                <a:ext cx="510480" cy="815040"/>
                <a:chOff x="5311800" y="3038400"/>
                <a:chExt cx="510480" cy="815040"/>
              </a:xfrm>
            </p:grpSpPr>
            <p:sp>
              <p:nvSpPr>
                <p:cNvPr id="1803" name="文本框 26664"/>
                <p:cNvSpPr/>
                <p:nvPr/>
              </p:nvSpPr>
              <p:spPr>
                <a:xfrm>
                  <a:off x="5317920" y="3393720"/>
                  <a:ext cx="504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04" name="文本框 26665"/>
                <p:cNvSpPr/>
                <p:nvPr/>
              </p:nvSpPr>
              <p:spPr>
                <a:xfrm>
                  <a:off x="5311800" y="3038400"/>
                  <a:ext cx="360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05" name="直接连接符 26666"/>
                <p:cNvSpPr/>
                <p:nvPr/>
              </p:nvSpPr>
              <p:spPr>
                <a:xfrm>
                  <a:off x="5327280" y="345744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sp>
        <p:nvSpPr>
          <p:cNvPr id="1806" name="Rectangle 2"/>
          <p:cNvSpPr/>
          <p:nvPr/>
        </p:nvSpPr>
        <p:spPr>
          <a:xfrm>
            <a:off x="395280" y="5024520"/>
            <a:ext cx="62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知道了什么？根据题意画出线段图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7" name="Rectangle 2"/>
          <p:cNvSpPr/>
          <p:nvPr/>
        </p:nvSpPr>
        <p:spPr>
          <a:xfrm>
            <a:off x="1187280" y="5383080"/>
            <a:ext cx="705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画的线段图和前两道题有什么不同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8" name="Rectangle 2"/>
          <p:cNvSpPr/>
          <p:nvPr/>
        </p:nvSpPr>
        <p:spPr>
          <a:xfrm>
            <a:off x="1187280" y="6081840"/>
            <a:ext cx="7525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谁读懂了它的意思，说一说。还有不同的想法吗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9" name="Rectangle 2"/>
          <p:cNvSpPr/>
          <p:nvPr/>
        </p:nvSpPr>
        <p:spPr>
          <a:xfrm>
            <a:off x="1187280" y="5800680"/>
            <a:ext cx="6100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能解决这个问题吗？写出你的思考过程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810" name="图片 26671" descr="u3jx03_9摩托车副本"/>
          <p:cNvPicPr/>
          <p:nvPr/>
        </p:nvPicPr>
        <p:blipFill>
          <a:blip r:embed="rId1"/>
          <a:stretch/>
        </p:blipFill>
        <p:spPr>
          <a:xfrm>
            <a:off x="7524720" y="2205000"/>
            <a:ext cx="1440000" cy="1079640"/>
          </a:xfrm>
          <a:prstGeom prst="rect">
            <a:avLst/>
          </a:prstGeom>
          <a:ln w="0">
            <a:noFill/>
          </a:ln>
        </p:spPr>
      </p:pic>
      <p:pic>
        <p:nvPicPr>
          <p:cNvPr id="1811" name="图片 26672" descr="u3jx03_9自行车副本"/>
          <p:cNvPicPr/>
          <p:nvPr/>
        </p:nvPicPr>
        <p:blipFill>
          <a:blip r:embed="rId2"/>
          <a:stretch/>
        </p:blipFill>
        <p:spPr>
          <a:xfrm>
            <a:off x="6045120" y="2220840"/>
            <a:ext cx="1440000" cy="10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dc:language>en-US</dc:language>
  <cp:lastModifiedBy>万润仪器贸易公司</cp:lastModifiedBy>
  <dcterms:modified xsi:type="dcterms:W3CDTF">2020-08-21T09:36:20Z</dcterms:modified>
  <cp:revision>3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